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move the slide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E50C-E065-43A0-A644-877AC3F14C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n an incorrect letter is chosen, press the ‘Oh no!’ button to add a part to the Hangman illust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9323-CE4A-4F3F-A660-3BD0DB939428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FEF2-5C69-43F7-ABD1-EC281CA3B24E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95A7-AC39-4680-AC9D-6CD9AE035106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n an incorrect letter is chosen, press the ‘Oh no!’ button to add a part to the Hangman illust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8DC3-0292-4C9A-9346-0113CA3B6AD2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n an incorrect letter is chosen, press the ‘Oh no!’ button to add a part to the Hangman illust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94A6-FD11-493E-AFF7-8593F5FDB7C8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n an incorrect letter is chosen, press the ‘Oh no!’ button to add a part to the Hangman illust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0C1F-91E1-4671-9673-1FD8DC2219ED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n an incorrect letter is chosen, press the ‘Oh no!’ button to add a part to the Hangman illust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E871-E371-4AB1-BD20-697360FAE510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n an incorrect letter is chosen, press the ‘Oh no!’ button to add a part to the Hangman illust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DE29-C1F0-4F8E-A45B-25D1A922A042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ounded Rectangle 3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7" name="Rounded Rectangle 4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8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winkl"/>
              </a:rPr>
              <a:t>Success Criteria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winkl"/>
              </a:rPr>
              <a:t>Aim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0" name="Content Placeholder 15"/>
          <p:cNvSpPr/>
          <p:nvPr/>
        </p:nvSpPr>
        <p:spPr>
          <a:xfrm>
            <a:off x="628560" y="3467160"/>
            <a:ext cx="7886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252000" tIns="252000" bIns="180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Statement 1 Lorem ipsum dolor sit amet, consectetur adipiscing elit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Statement 2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Twinkl"/>
                <a:ea typeface="Sassoon Infant Rg"/>
              </a:rPr>
              <a:t>Sub statement</a:t>
            </a:r>
            <a:endParaRPr b="0" lang="en-US" sz="1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21"/>
          <p:cNvSpPr/>
          <p:nvPr/>
        </p:nvSpPr>
        <p:spPr>
          <a:xfrm>
            <a:off x="3179880" y="2395440"/>
            <a:ext cx="578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c1c1c"/>
                </a:solidFill>
                <a:latin typeface="Twinkl"/>
                <a:ea typeface="Sassoon Infant Rg"/>
              </a:rPr>
              <a:t>_ _ _ _ </a:t>
            </a:r>
            <a:endParaRPr b="0" lang="en-US" sz="4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15" name="Freeform 8"/>
          <p:cNvSpPr/>
          <p:nvPr/>
        </p:nvSpPr>
        <p:spPr>
          <a:xfrm>
            <a:off x="3798720" y="765000"/>
            <a:ext cx="4551480" cy="1203480"/>
          </a:xfrm>
          <a:custGeom>
            <a:avLst/>
            <a:gdLst/>
            <a:ahLst/>
            <a:rect l="l" t="t" r="r" b="b"/>
            <a:pathLst>
              <a:path w="4980008" h="1204087">
                <a:moveTo>
                  <a:pt x="92960" y="0"/>
                </a:moveTo>
                <a:lnTo>
                  <a:pt x="4884205" y="0"/>
                </a:lnTo>
                <a:cubicBezTo>
                  <a:pt x="4935545" y="0"/>
                  <a:pt x="4977165" y="41620"/>
                  <a:pt x="4977165" y="92960"/>
                </a:cubicBezTo>
                <a:lnTo>
                  <a:pt x="4977165" y="334321"/>
                </a:lnTo>
                <a:lnTo>
                  <a:pt x="4980008" y="349903"/>
                </a:lnTo>
                <a:lnTo>
                  <a:pt x="4980008" y="876507"/>
                </a:lnTo>
                <a:cubicBezTo>
                  <a:pt x="4980008" y="949217"/>
                  <a:pt x="4926742" y="1008161"/>
                  <a:pt x="4861036" y="1008161"/>
                </a:cubicBezTo>
                <a:lnTo>
                  <a:pt x="342091" y="1008161"/>
                </a:lnTo>
                <a:lnTo>
                  <a:pt x="266832" y="1204087"/>
                </a:lnTo>
                <a:lnTo>
                  <a:pt x="191574" y="1008161"/>
                </a:lnTo>
                <a:lnTo>
                  <a:pt x="120336" y="1008161"/>
                </a:lnTo>
                <a:cubicBezTo>
                  <a:pt x="54630" y="1008161"/>
                  <a:pt x="1364" y="949217"/>
                  <a:pt x="1364" y="876507"/>
                </a:cubicBezTo>
                <a:lnTo>
                  <a:pt x="1364" y="471545"/>
                </a:lnTo>
                <a:lnTo>
                  <a:pt x="0" y="464789"/>
                </a:lnTo>
                <a:lnTo>
                  <a:pt x="0" y="92960"/>
                </a:lnTo>
                <a:cubicBezTo>
                  <a:pt x="0" y="41620"/>
                  <a:pt x="41620" y="0"/>
                  <a:pt x="92960" y="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16" name="4-Point Star 9"/>
          <p:cNvSpPr/>
          <p:nvPr/>
        </p:nvSpPr>
        <p:spPr>
          <a:xfrm>
            <a:off x="7257960" y="2322360"/>
            <a:ext cx="276480" cy="324000"/>
          </a:xfrm>
          <a:custGeom>
            <a:avLst/>
            <a:gdLst>
              <a:gd name="textAreaLeft" fmla="*/ 113760 w 276480"/>
              <a:gd name="textAreaRight" fmla="*/ 162720 w 276480"/>
              <a:gd name="textAreaTop" fmla="*/ 133560 h 324000"/>
              <a:gd name="textAreaBottom" fmla="*/ 190440 h 3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17" name="4-Point Star 10"/>
          <p:cNvSpPr/>
          <p:nvPr/>
        </p:nvSpPr>
        <p:spPr>
          <a:xfrm>
            <a:off x="7257960" y="2322360"/>
            <a:ext cx="276480" cy="324000"/>
          </a:xfrm>
          <a:custGeom>
            <a:avLst/>
            <a:gdLst>
              <a:gd name="textAreaLeft" fmla="*/ 113760 w 276480"/>
              <a:gd name="textAreaRight" fmla="*/ 162720 w 276480"/>
              <a:gd name="textAreaTop" fmla="*/ 133560 h 324000"/>
              <a:gd name="textAreaBottom" fmla="*/ 190440 h 3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18" name="Rectangle 11"/>
          <p:cNvSpPr/>
          <p:nvPr/>
        </p:nvSpPr>
        <p:spPr>
          <a:xfrm>
            <a:off x="757080" y="4363920"/>
            <a:ext cx="7631280" cy="1741680"/>
          </a:xfrm>
          <a:prstGeom prst="rect">
            <a:avLst/>
          </a:prstGeom>
          <a:solidFill>
            <a:srgbClr val="ead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19" name="Rectangle 12"/>
          <p:cNvSpPr/>
          <p:nvPr/>
        </p:nvSpPr>
        <p:spPr>
          <a:xfrm>
            <a:off x="3916440" y="995400"/>
            <a:ext cx="437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Twinkl"/>
                <a:ea typeface="Sassoon Infant Rg"/>
              </a:rPr>
              <a:t>When you light a fire, you make </a:t>
            </a:r>
            <a:br>
              <a:rPr sz="1600"/>
            </a:br>
            <a:r>
              <a:rPr b="0" lang="en-GB" sz="1600" spc="-1" strike="noStrike">
                <a:solidFill>
                  <a:srgbClr val="1c1c1c"/>
                </a:solidFill>
                <a:latin typeface="Twinkl"/>
                <a:ea typeface="Sassoon Infant Rg"/>
              </a:rPr>
              <a:t>something _ _ _ _.</a:t>
            </a:r>
            <a:endParaRPr b="0" lang="en-US" sz="1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0" name="'a'"/>
          <p:cNvSpPr/>
          <p:nvPr/>
        </p:nvSpPr>
        <p:spPr>
          <a:xfrm>
            <a:off x="111744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a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1" name="'b'"/>
          <p:cNvSpPr/>
          <p:nvPr/>
        </p:nvSpPr>
        <p:spPr>
          <a:xfrm>
            <a:off x="189864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b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2" name="'c'"/>
          <p:cNvSpPr/>
          <p:nvPr/>
        </p:nvSpPr>
        <p:spPr>
          <a:xfrm>
            <a:off x="2679840" y="44308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c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3" name="'d'"/>
          <p:cNvSpPr/>
          <p:nvPr/>
        </p:nvSpPr>
        <p:spPr>
          <a:xfrm>
            <a:off x="346068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d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4" name="'e'"/>
          <p:cNvSpPr/>
          <p:nvPr/>
        </p:nvSpPr>
        <p:spPr>
          <a:xfrm>
            <a:off x="4241880" y="44308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e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5" name="'f'"/>
          <p:cNvSpPr/>
          <p:nvPr/>
        </p:nvSpPr>
        <p:spPr>
          <a:xfrm>
            <a:off x="502272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f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6" name="'g'"/>
          <p:cNvSpPr/>
          <p:nvPr/>
        </p:nvSpPr>
        <p:spPr>
          <a:xfrm>
            <a:off x="5803920" y="44308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g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7" name="'h'"/>
          <p:cNvSpPr/>
          <p:nvPr/>
        </p:nvSpPr>
        <p:spPr>
          <a:xfrm>
            <a:off x="6585120" y="44308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h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8" name="'i'"/>
          <p:cNvSpPr/>
          <p:nvPr/>
        </p:nvSpPr>
        <p:spPr>
          <a:xfrm>
            <a:off x="7367760" y="443088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i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9" name="'j'"/>
          <p:cNvSpPr/>
          <p:nvPr/>
        </p:nvSpPr>
        <p:spPr>
          <a:xfrm>
            <a:off x="111744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j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0" name="'k'"/>
          <p:cNvSpPr/>
          <p:nvPr/>
        </p:nvSpPr>
        <p:spPr>
          <a:xfrm>
            <a:off x="189864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k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1" name="'l'"/>
          <p:cNvSpPr/>
          <p:nvPr/>
        </p:nvSpPr>
        <p:spPr>
          <a:xfrm>
            <a:off x="267984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l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2" name="'m'"/>
          <p:cNvSpPr/>
          <p:nvPr/>
        </p:nvSpPr>
        <p:spPr>
          <a:xfrm>
            <a:off x="346068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m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3" name="'n'"/>
          <p:cNvSpPr/>
          <p:nvPr/>
        </p:nvSpPr>
        <p:spPr>
          <a:xfrm>
            <a:off x="6505560" y="25336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n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4" name="'o'"/>
          <p:cNvSpPr/>
          <p:nvPr/>
        </p:nvSpPr>
        <p:spPr>
          <a:xfrm>
            <a:off x="502272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o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5" name="'p'"/>
          <p:cNvSpPr/>
          <p:nvPr/>
        </p:nvSpPr>
        <p:spPr>
          <a:xfrm>
            <a:off x="580392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p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6" name="'q'"/>
          <p:cNvSpPr/>
          <p:nvPr/>
        </p:nvSpPr>
        <p:spPr>
          <a:xfrm>
            <a:off x="658512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q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7" name="'r'"/>
          <p:cNvSpPr/>
          <p:nvPr/>
        </p:nvSpPr>
        <p:spPr>
          <a:xfrm>
            <a:off x="7367760" y="501660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r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8" name="'s'"/>
          <p:cNvSpPr/>
          <p:nvPr/>
        </p:nvSpPr>
        <p:spPr>
          <a:xfrm>
            <a:off x="1569960" y="556092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s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9" name="'t'"/>
          <p:cNvSpPr/>
          <p:nvPr/>
        </p:nvSpPr>
        <p:spPr>
          <a:xfrm>
            <a:off x="2351160" y="556092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t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40" name="'u'"/>
          <p:cNvSpPr/>
          <p:nvPr/>
        </p:nvSpPr>
        <p:spPr>
          <a:xfrm>
            <a:off x="3132000" y="556092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u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41" name="'v'"/>
          <p:cNvSpPr/>
          <p:nvPr/>
        </p:nvSpPr>
        <p:spPr>
          <a:xfrm>
            <a:off x="3913200" y="556092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v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42" name="'w'"/>
          <p:cNvSpPr/>
          <p:nvPr/>
        </p:nvSpPr>
        <p:spPr>
          <a:xfrm>
            <a:off x="469584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w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43" name="'x'"/>
          <p:cNvSpPr/>
          <p:nvPr/>
        </p:nvSpPr>
        <p:spPr>
          <a:xfrm>
            <a:off x="547704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x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44" name="'y'"/>
          <p:cNvSpPr/>
          <p:nvPr/>
        </p:nvSpPr>
        <p:spPr>
          <a:xfrm>
            <a:off x="625788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y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45" name="'z'"/>
          <p:cNvSpPr/>
          <p:nvPr/>
        </p:nvSpPr>
        <p:spPr>
          <a:xfrm>
            <a:off x="703908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z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546" name="Picture 42" descr=""/>
          <p:cNvPicPr/>
          <p:nvPr/>
        </p:nvPicPr>
        <p:blipFill>
          <a:blip r:embed="rId1"/>
          <a:stretch/>
        </p:blipFill>
        <p:spPr>
          <a:xfrm>
            <a:off x="1004760" y="1679400"/>
            <a:ext cx="385920" cy="12765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44" descr=""/>
          <p:cNvPicPr/>
          <p:nvPr/>
        </p:nvPicPr>
        <p:blipFill>
          <a:blip r:embed="rId2"/>
          <a:stretch/>
        </p:blipFill>
        <p:spPr>
          <a:xfrm>
            <a:off x="1501920" y="1679400"/>
            <a:ext cx="385560" cy="12765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5" descr=""/>
          <p:cNvPicPr/>
          <p:nvPr/>
        </p:nvPicPr>
        <p:blipFill>
          <a:blip r:embed="rId3"/>
          <a:stretch/>
        </p:blipFill>
        <p:spPr>
          <a:xfrm>
            <a:off x="2021040" y="1679400"/>
            <a:ext cx="385560" cy="12765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6" descr=""/>
          <p:cNvPicPr/>
          <p:nvPr/>
        </p:nvPicPr>
        <p:blipFill>
          <a:blip r:embed="rId4"/>
          <a:stretch/>
        </p:blipFill>
        <p:spPr>
          <a:xfrm>
            <a:off x="2540160" y="1679400"/>
            <a:ext cx="387360" cy="12765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7" descr=""/>
          <p:cNvPicPr/>
          <p:nvPr/>
        </p:nvPicPr>
        <p:blipFill>
          <a:blip r:embed="rId5"/>
          <a:stretch/>
        </p:blipFill>
        <p:spPr>
          <a:xfrm>
            <a:off x="1271520" y="172260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8" descr=""/>
          <p:cNvPicPr/>
          <p:nvPr/>
        </p:nvPicPr>
        <p:blipFill>
          <a:blip r:embed="rId6"/>
          <a:stretch/>
        </p:blipFill>
        <p:spPr>
          <a:xfrm>
            <a:off x="1768320" y="172260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9" descr=""/>
          <p:cNvPicPr/>
          <p:nvPr/>
        </p:nvPicPr>
        <p:blipFill>
          <a:blip r:embed="rId7"/>
          <a:stretch/>
        </p:blipFill>
        <p:spPr>
          <a:xfrm>
            <a:off x="2287440" y="172260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0" descr=""/>
          <p:cNvPicPr/>
          <p:nvPr/>
        </p:nvPicPr>
        <p:blipFill>
          <a:blip r:embed="rId8"/>
          <a:stretch/>
        </p:blipFill>
        <p:spPr>
          <a:xfrm>
            <a:off x="1519200" y="180504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7" descr=""/>
          <p:cNvPicPr/>
          <p:nvPr/>
        </p:nvPicPr>
        <p:blipFill>
          <a:blip r:embed="rId9"/>
          <a:stretch/>
        </p:blipFill>
        <p:spPr>
          <a:xfrm>
            <a:off x="2016000" y="1805040"/>
            <a:ext cx="385920" cy="1276200"/>
          </a:xfrm>
          <a:prstGeom prst="rect">
            <a:avLst/>
          </a:prstGeom>
          <a:ln w="0">
            <a:noFill/>
          </a:ln>
        </p:spPr>
      </p:pic>
      <p:sp>
        <p:nvSpPr>
          <p:cNvPr id="555" name="Oh no! Button"/>
          <p:cNvSpPr/>
          <p:nvPr/>
        </p:nvSpPr>
        <p:spPr>
          <a:xfrm>
            <a:off x="1427040" y="3479760"/>
            <a:ext cx="1092240" cy="619200"/>
          </a:xfrm>
          <a:prstGeom prst="roundRect">
            <a:avLst>
              <a:gd name="adj" fmla="val 16667"/>
            </a:avLst>
          </a:prstGeom>
          <a:solidFill>
            <a:srgbClr val="ff4343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Uh-Oh!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556" name="Picture 59" descr=""/>
          <p:cNvPicPr/>
          <p:nvPr/>
        </p:nvPicPr>
        <p:blipFill>
          <a:blip r:embed="rId10"/>
          <a:stretch/>
        </p:blipFill>
        <p:spPr>
          <a:xfrm>
            <a:off x="1770120" y="1779480"/>
            <a:ext cx="40644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0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244" nodeType="clickEffect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9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1250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5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256" nodeType="clickEffect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1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1262" nodeType="clickEffect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7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1268" nodeType="clickEffect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3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274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9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280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5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286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1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292" nodeType="clickEffect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7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298" nodeType="clickEffect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3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1304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9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1310" nodeType="clickEffect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5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316" nodeType="clickEffect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1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1322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7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1328" nodeType="clickEffect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3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334" nodeType="clickEffect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9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340" nodeType="clickEffect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5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346" nodeType="clickEffect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1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352" nodeType="clickEffect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7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358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3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364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9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370" nodeType="clickEffect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5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1376" nodeType="clickEffect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0.33854 -0.2787 E">
                                      <p:cBhvr>
                                        <p:cTn id="1379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0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1381" nodeType="clickEffect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44444E-006 L 0.25712 -0.44305 E">
                                      <p:cBhvr>
                                        <p:cTn id="1384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5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1386" nodeType="clickEffect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6 L -0.14879 -0.36111 E">
                                      <p:cBhvr>
                                        <p:cTn id="1389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0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391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4" dur="10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2" dur="10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0" dur="1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3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8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6" dur="1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9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4" dur="1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2" dur="10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5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0" dur="10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3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8" dur="1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1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6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reeform 12"/>
          <p:cNvSpPr/>
          <p:nvPr/>
        </p:nvSpPr>
        <p:spPr>
          <a:xfrm>
            <a:off x="2962440" y="1477800"/>
            <a:ext cx="3219120" cy="2167200"/>
          </a:xfrm>
          <a:prstGeom prst="pie">
            <a:avLst/>
          </a:prstGeom>
          <a:solidFill>
            <a:srgbClr val="fdfdfd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18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Work hard to learn them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58" name="Pentagon 5"/>
          <p:cNvSpPr/>
          <p:nvPr/>
        </p:nvSpPr>
        <p:spPr>
          <a:xfrm>
            <a:off x="444600" y="770040"/>
            <a:ext cx="5511600" cy="453960"/>
          </a:xfrm>
          <a:custGeom>
            <a:avLst/>
            <a:gdLst>
              <a:gd name="textAreaLeft" fmla="*/ 0 w 5511600"/>
              <a:gd name="textAreaRight" fmla="*/ 5511960 w 55116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10" y="0"/>
                </a:lnTo>
                <a:lnTo>
                  <a:pt x="21600" y="10800"/>
                </a:lnTo>
                <a:lnTo>
                  <a:pt x="20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bc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</a:rPr>
              <a:t>Here are your spelling words for this week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rcRect l="43384" t="5903" r="43384" b="5903"/>
          <a:stretch/>
        </p:blipFill>
        <p:spPr>
          <a:xfrm>
            <a:off x="6792840" y="839880"/>
            <a:ext cx="1100160" cy="5178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560" name="Picture 3" descr=""/>
          <p:cNvPicPr/>
          <p:nvPr/>
        </p:nvPicPr>
        <p:blipFill>
          <a:blip r:embed="rId2"/>
          <a:stretch/>
        </p:blipFill>
        <p:spPr>
          <a:xfrm>
            <a:off x="755640" y="1744560"/>
            <a:ext cx="33177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4"/>
          <p:cNvSpPr/>
          <p:nvPr/>
        </p:nvSpPr>
        <p:spPr>
          <a:xfrm>
            <a:off x="763560" y="765000"/>
            <a:ext cx="7624800" cy="846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72727"/>
                </a:solidFill>
                <a:latin typeface="Twinkl"/>
                <a:ea typeface="Clear Sans Light"/>
              </a:rPr>
              <a:t>We have already seen that the /er/ sound can be spelt with ‘er’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167" name="Group 7176"/>
          <p:cNvGrpSpPr/>
          <p:nvPr/>
        </p:nvGrpSpPr>
        <p:grpSpPr>
          <a:xfrm>
            <a:off x="5989680" y="1611360"/>
            <a:ext cx="2406600" cy="4481640"/>
            <a:chOff x="5989680" y="1611360"/>
            <a:chExt cx="2406600" cy="4481640"/>
          </a:xfrm>
        </p:grpSpPr>
        <p:sp>
          <p:nvSpPr>
            <p:cNvPr id="168" name="Rectangle 284"/>
            <p:cNvSpPr/>
            <p:nvPr/>
          </p:nvSpPr>
          <p:spPr>
            <a:xfrm>
              <a:off x="5989680" y="1611360"/>
              <a:ext cx="2406600" cy="4481640"/>
            </a:xfrm>
            <a:prstGeom prst="rect">
              <a:avLst/>
            </a:prstGeom>
            <a:solidFill>
              <a:srgbClr val="ea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169" name="TextBox 281"/>
            <p:cNvSpPr/>
            <p:nvPr/>
          </p:nvSpPr>
          <p:spPr>
            <a:xfrm>
              <a:off x="6135480" y="5384520"/>
              <a:ext cx="211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rubber</a:t>
              </a:r>
              <a:endParaRPr b="0" lang="en-US" sz="32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pic>
          <p:nvPicPr>
            <p:cNvPr id="170" name="Picture 17" descr=""/>
            <p:cNvPicPr/>
            <p:nvPr/>
          </p:nvPicPr>
          <p:blipFill>
            <a:blip r:embed="rId1"/>
            <a:stretch/>
          </p:blipFill>
          <p:spPr>
            <a:xfrm>
              <a:off x="6259320" y="2572560"/>
              <a:ext cx="1867320" cy="201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7175"/>
          <p:cNvGrpSpPr/>
          <p:nvPr/>
        </p:nvGrpSpPr>
        <p:grpSpPr>
          <a:xfrm>
            <a:off x="3368520" y="1611360"/>
            <a:ext cx="2406960" cy="4481640"/>
            <a:chOff x="3368520" y="1611360"/>
            <a:chExt cx="2406960" cy="4481640"/>
          </a:xfrm>
        </p:grpSpPr>
        <p:sp>
          <p:nvSpPr>
            <p:cNvPr id="172" name="Rectangle 283"/>
            <p:cNvSpPr/>
            <p:nvPr/>
          </p:nvSpPr>
          <p:spPr>
            <a:xfrm>
              <a:off x="3368520" y="1611360"/>
              <a:ext cx="2406960" cy="4481640"/>
            </a:xfrm>
            <a:prstGeom prst="rect">
              <a:avLst/>
            </a:prstGeom>
            <a:solidFill>
              <a:srgbClr val="ea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173" name="TextBox 280"/>
            <p:cNvSpPr/>
            <p:nvPr/>
          </p:nvSpPr>
          <p:spPr>
            <a:xfrm>
              <a:off x="3518280" y="5384520"/>
              <a:ext cx="211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under</a:t>
              </a:r>
              <a:endParaRPr b="0" lang="en-US" sz="32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pic>
          <p:nvPicPr>
            <p:cNvPr id="174" name="Picture 7171" descr=""/>
            <p:cNvPicPr/>
            <p:nvPr/>
          </p:nvPicPr>
          <p:blipFill>
            <a:blip r:embed="rId2"/>
            <a:stretch/>
          </p:blipFill>
          <p:spPr>
            <a:xfrm>
              <a:off x="3530160" y="2845440"/>
              <a:ext cx="2083320" cy="146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Group 7177"/>
          <p:cNvGrpSpPr/>
          <p:nvPr/>
        </p:nvGrpSpPr>
        <p:grpSpPr>
          <a:xfrm>
            <a:off x="755640" y="1611360"/>
            <a:ext cx="2406600" cy="4481640"/>
            <a:chOff x="755640" y="1611360"/>
            <a:chExt cx="2406600" cy="4481640"/>
          </a:xfrm>
        </p:grpSpPr>
        <p:grpSp>
          <p:nvGrpSpPr>
            <p:cNvPr id="176" name="Group 7174"/>
            <p:cNvGrpSpPr/>
            <p:nvPr/>
          </p:nvGrpSpPr>
          <p:grpSpPr>
            <a:xfrm>
              <a:off x="755640" y="1611360"/>
              <a:ext cx="2406600" cy="4481640"/>
              <a:chOff x="755640" y="1611360"/>
              <a:chExt cx="2406600" cy="4481640"/>
            </a:xfrm>
          </p:grpSpPr>
          <p:sp>
            <p:nvSpPr>
              <p:cNvPr id="177" name="Rectangle 16"/>
              <p:cNvSpPr/>
              <p:nvPr/>
            </p:nvSpPr>
            <p:spPr>
              <a:xfrm>
                <a:off x="755640" y="1611360"/>
                <a:ext cx="2406600" cy="4481640"/>
              </a:xfrm>
              <a:prstGeom prst="rect">
                <a:avLst/>
              </a:prstGeom>
              <a:solidFill>
                <a:srgbClr val="ead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Twinkl"/>
                </a:endParaRPr>
              </a:p>
            </p:txBody>
          </p:sp>
          <p:sp>
            <p:nvSpPr>
              <p:cNvPr id="178" name="TextBox 277"/>
              <p:cNvSpPr/>
              <p:nvPr/>
            </p:nvSpPr>
            <p:spPr>
              <a:xfrm>
                <a:off x="901440" y="5384520"/>
                <a:ext cx="2115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1c1c1c"/>
                    </a:solidFill>
                    <a:latin typeface="Twinkl"/>
                    <a:ea typeface="Sassoon Infant Rg"/>
                  </a:rPr>
                  <a:t>sister</a:t>
                </a:r>
                <a:endParaRPr b="0" lang="en-US" sz="3200" spc="-1" strike="noStrike">
                  <a:solidFill>
                    <a:srgbClr val="1c1c1c"/>
                  </a:solidFill>
                  <a:latin typeface="Twinkl"/>
                </a:endParaRPr>
              </a:p>
            </p:txBody>
          </p:sp>
          <p:pic>
            <p:nvPicPr>
              <p:cNvPr id="179" name="Picture 7172" descr=""/>
              <p:cNvPicPr/>
              <p:nvPr/>
            </p:nvPicPr>
            <p:blipFill>
              <a:blip r:embed="rId3"/>
              <a:stretch/>
            </p:blipFill>
            <p:spPr>
              <a:xfrm>
                <a:off x="1010880" y="2584080"/>
                <a:ext cx="1771920" cy="1990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0" name="Down Arrow 7173"/>
            <p:cNvSpPr/>
            <p:nvPr/>
          </p:nvSpPr>
          <p:spPr>
            <a:xfrm>
              <a:off x="1450800" y="2660760"/>
              <a:ext cx="171360" cy="369720"/>
            </a:xfrm>
            <a:prstGeom prst="downArrow">
              <a:avLst>
                <a:gd name="adj1" fmla="val 30556"/>
                <a:gd name="adj2" fmla="val 104162"/>
              </a:avLst>
            </a:prstGeom>
            <a:solidFill>
              <a:srgbClr val="e34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59"/>
          <p:cNvGrpSpPr/>
          <p:nvPr/>
        </p:nvGrpSpPr>
        <p:grpSpPr>
          <a:xfrm>
            <a:off x="5011560" y="1874880"/>
            <a:ext cx="3295800" cy="3295440"/>
            <a:chOff x="5011560" y="1874880"/>
            <a:chExt cx="3295800" cy="3295440"/>
          </a:xfrm>
        </p:grpSpPr>
        <p:grpSp>
          <p:nvGrpSpPr>
            <p:cNvPr id="182" name="Group 258"/>
            <p:cNvGrpSpPr/>
            <p:nvPr/>
          </p:nvGrpSpPr>
          <p:grpSpPr>
            <a:xfrm>
              <a:off x="5011560" y="1874880"/>
              <a:ext cx="3295800" cy="3295440"/>
              <a:chOff x="5011560" y="1874880"/>
              <a:chExt cx="3295800" cy="3295440"/>
            </a:xfrm>
          </p:grpSpPr>
          <p:grpSp>
            <p:nvGrpSpPr>
              <p:cNvPr id="183" name="Group 2"/>
              <p:cNvGrpSpPr/>
              <p:nvPr/>
            </p:nvGrpSpPr>
            <p:grpSpPr>
              <a:xfrm>
                <a:off x="5011560" y="1874880"/>
                <a:ext cx="3295800" cy="3295440"/>
                <a:chOff x="5011560" y="1874880"/>
                <a:chExt cx="3295800" cy="3295440"/>
              </a:xfrm>
            </p:grpSpPr>
            <p:sp>
              <p:nvSpPr>
                <p:cNvPr id="184" name="Oval 264"/>
                <p:cNvSpPr/>
                <p:nvPr/>
              </p:nvSpPr>
              <p:spPr>
                <a:xfrm>
                  <a:off x="5011560" y="1874880"/>
                  <a:ext cx="3295800" cy="3295440"/>
                </a:xfrm>
                <a:prstGeom prst="ellipse">
                  <a:avLst/>
                </a:prstGeom>
                <a:solidFill>
                  <a:srgbClr val="c6c6c6"/>
                </a:solidFill>
                <a:ln w="2844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1c1c"/>
                    </a:solidFill>
                    <a:latin typeface="Twinkl"/>
                  </a:endParaRPr>
                </a:p>
              </p:txBody>
            </p:sp>
            <p:sp>
              <p:nvSpPr>
                <p:cNvPr id="185" name="Oval 265"/>
                <p:cNvSpPr/>
                <p:nvPr/>
              </p:nvSpPr>
              <p:spPr>
                <a:xfrm>
                  <a:off x="5078160" y="1931760"/>
                  <a:ext cx="3171960" cy="3171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c1c1c"/>
                    </a:solidFill>
                    <a:latin typeface="Twinkl"/>
                  </a:endParaRPr>
                </a:p>
              </p:txBody>
            </p:sp>
          </p:grpSp>
          <p:grpSp>
            <p:nvGrpSpPr>
              <p:cNvPr id="186" name="Group 99"/>
              <p:cNvGrpSpPr/>
              <p:nvPr/>
            </p:nvGrpSpPr>
            <p:grpSpPr>
              <a:xfrm>
                <a:off x="5133600" y="1966680"/>
                <a:ext cx="3037320" cy="3098880"/>
                <a:chOff x="5133600" y="1966680"/>
                <a:chExt cx="3037320" cy="3098880"/>
              </a:xfrm>
            </p:grpSpPr>
            <p:sp>
              <p:nvSpPr>
                <p:cNvPr id="187" name="Straight Connector 260"/>
                <p:cNvSpPr/>
                <p:nvPr/>
              </p:nvSpPr>
              <p:spPr>
                <a:xfrm>
                  <a:off x="6662520" y="1966680"/>
                  <a:ext cx="0" cy="274320"/>
                </a:xfrm>
                <a:prstGeom prst="line">
                  <a:avLst/>
                </a:prstGeom>
                <a:ln cap="rnd" w="57240">
                  <a:solidFill>
                    <a:srgbClr val="ffc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Twinkl"/>
                  </a:endParaRPr>
                </a:p>
              </p:txBody>
            </p:sp>
            <p:sp>
              <p:nvSpPr>
                <p:cNvPr id="188" name="Straight Connector 261"/>
                <p:cNvSpPr/>
                <p:nvPr/>
              </p:nvSpPr>
              <p:spPr>
                <a:xfrm>
                  <a:off x="6657840" y="4791240"/>
                  <a:ext cx="0" cy="274320"/>
                </a:xfrm>
                <a:prstGeom prst="line">
                  <a:avLst/>
                </a:prstGeom>
                <a:ln cap="rnd" w="57240">
                  <a:solidFill>
                    <a:srgbClr val="ffc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Twinkl"/>
                  </a:endParaRPr>
                </a:p>
              </p:txBody>
            </p:sp>
            <p:sp>
              <p:nvSpPr>
                <p:cNvPr id="189" name="Straight Connector 262"/>
                <p:cNvSpPr/>
                <p:nvPr/>
              </p:nvSpPr>
              <p:spPr>
                <a:xfrm>
                  <a:off x="7896240" y="3519360"/>
                  <a:ext cx="274680" cy="0"/>
                </a:xfrm>
                <a:prstGeom prst="line">
                  <a:avLst/>
                </a:prstGeom>
                <a:ln cap="rnd" w="57240">
                  <a:solidFill>
                    <a:srgbClr val="ffc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Twinkl"/>
                  </a:endParaRPr>
                </a:p>
              </p:txBody>
            </p:sp>
            <p:sp>
              <p:nvSpPr>
                <p:cNvPr id="190" name="Straight Connector 263"/>
                <p:cNvSpPr/>
                <p:nvPr/>
              </p:nvSpPr>
              <p:spPr>
                <a:xfrm>
                  <a:off x="5133600" y="3519360"/>
                  <a:ext cx="274680" cy="0"/>
                </a:xfrm>
                <a:prstGeom prst="line">
                  <a:avLst/>
                </a:prstGeom>
                <a:ln cap="rnd" w="57240">
                  <a:solidFill>
                    <a:srgbClr val="ffc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Twinkl"/>
                  </a:endParaRPr>
                </a:p>
              </p:txBody>
            </p:sp>
          </p:grpSp>
          <p:grpSp>
            <p:nvGrpSpPr>
              <p:cNvPr id="191" name="Group 129"/>
              <p:cNvGrpSpPr/>
              <p:nvPr/>
            </p:nvGrpSpPr>
            <p:grpSpPr>
              <a:xfrm>
                <a:off x="5163840" y="2889720"/>
                <a:ext cx="3000960" cy="1249200"/>
                <a:chOff x="5163840" y="2889720"/>
                <a:chExt cx="3000960" cy="1249200"/>
              </a:xfrm>
            </p:grpSpPr>
            <p:grpSp>
              <p:nvGrpSpPr>
                <p:cNvPr id="192" name="Group 117"/>
                <p:cNvGrpSpPr/>
                <p:nvPr/>
              </p:nvGrpSpPr>
              <p:grpSpPr>
                <a:xfrm>
                  <a:off x="5163840" y="3647520"/>
                  <a:ext cx="296640" cy="491400"/>
                  <a:chOff x="5163840" y="3647520"/>
                  <a:chExt cx="296640" cy="491400"/>
                </a:xfrm>
              </p:grpSpPr>
              <p:sp>
                <p:nvSpPr>
                  <p:cNvPr id="193" name="Straight Connector 256"/>
                  <p:cNvSpPr/>
                  <p:nvPr/>
                </p:nvSpPr>
                <p:spPr>
                  <a:xfrm flipV="1">
                    <a:off x="5163840" y="3647520"/>
                    <a:ext cx="197280" cy="2088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194" name="Straight Connector 257"/>
                  <p:cNvSpPr/>
                  <p:nvPr/>
                </p:nvSpPr>
                <p:spPr>
                  <a:xfrm flipV="1">
                    <a:off x="5194800" y="3781080"/>
                    <a:ext cx="199080" cy="4572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195" name="Straight Connector 258"/>
                  <p:cNvSpPr/>
                  <p:nvPr/>
                </p:nvSpPr>
                <p:spPr>
                  <a:xfrm flipV="1">
                    <a:off x="5226840" y="3907080"/>
                    <a:ext cx="198360" cy="6084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196" name="Straight Connector 259"/>
                  <p:cNvSpPr/>
                  <p:nvPr/>
                </p:nvSpPr>
                <p:spPr>
                  <a:xfrm flipV="1">
                    <a:off x="5271120" y="4054680"/>
                    <a:ext cx="189360" cy="8424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</p:grpSp>
            <p:grpSp>
              <p:nvGrpSpPr>
                <p:cNvPr id="197" name="Group 124"/>
                <p:cNvGrpSpPr/>
                <p:nvPr/>
              </p:nvGrpSpPr>
              <p:grpSpPr>
                <a:xfrm>
                  <a:off x="7855920" y="2889720"/>
                  <a:ext cx="308880" cy="486720"/>
                  <a:chOff x="7855920" y="2889720"/>
                  <a:chExt cx="308880" cy="486720"/>
                </a:xfrm>
              </p:grpSpPr>
              <p:sp>
                <p:nvSpPr>
                  <p:cNvPr id="198" name="Straight Connector 252"/>
                  <p:cNvSpPr/>
                  <p:nvPr/>
                </p:nvSpPr>
                <p:spPr>
                  <a:xfrm flipH="1">
                    <a:off x="7961400" y="3354840"/>
                    <a:ext cx="203400" cy="2160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199" name="Straight Connector 253"/>
                  <p:cNvSpPr/>
                  <p:nvPr/>
                </p:nvSpPr>
                <p:spPr>
                  <a:xfrm flipH="1">
                    <a:off x="7927560" y="3206160"/>
                    <a:ext cx="194760" cy="4500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00" name="Straight Connector 254"/>
                  <p:cNvSpPr/>
                  <p:nvPr/>
                </p:nvSpPr>
                <p:spPr>
                  <a:xfrm flipH="1">
                    <a:off x="7880400" y="3025440"/>
                    <a:ext cx="195480" cy="5976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01" name="Straight Connector 255"/>
                  <p:cNvSpPr/>
                  <p:nvPr/>
                </p:nvSpPr>
                <p:spPr>
                  <a:xfrm flipH="1">
                    <a:off x="7855920" y="2889720"/>
                    <a:ext cx="181440" cy="8064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</p:grpSp>
          </p:grpSp>
          <p:grpSp>
            <p:nvGrpSpPr>
              <p:cNvPr id="202" name="Group 130"/>
              <p:cNvGrpSpPr/>
              <p:nvPr/>
            </p:nvGrpSpPr>
            <p:grpSpPr>
              <a:xfrm>
                <a:off x="5158800" y="2900160"/>
                <a:ext cx="3009960" cy="1233000"/>
                <a:chOff x="5158800" y="2900160"/>
                <a:chExt cx="3009960" cy="1233000"/>
              </a:xfrm>
            </p:grpSpPr>
            <p:grpSp>
              <p:nvGrpSpPr>
                <p:cNvPr id="203" name="Group 131"/>
                <p:cNvGrpSpPr/>
                <p:nvPr/>
              </p:nvGrpSpPr>
              <p:grpSpPr>
                <a:xfrm>
                  <a:off x="5158800" y="2900160"/>
                  <a:ext cx="307440" cy="487800"/>
                  <a:chOff x="5158800" y="2900160"/>
                  <a:chExt cx="307440" cy="487800"/>
                </a:xfrm>
              </p:grpSpPr>
              <p:sp>
                <p:nvSpPr>
                  <p:cNvPr id="204" name="Straight Connector 246"/>
                  <p:cNvSpPr/>
                  <p:nvPr/>
                </p:nvSpPr>
                <p:spPr>
                  <a:xfrm>
                    <a:off x="5278320" y="2900160"/>
                    <a:ext cx="187920" cy="8388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05" name="Straight Connector 247"/>
                  <p:cNvSpPr/>
                  <p:nvPr/>
                </p:nvSpPr>
                <p:spPr>
                  <a:xfrm>
                    <a:off x="5234760" y="3051360"/>
                    <a:ext cx="195480" cy="5976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06" name="Straight Connector 248"/>
                  <p:cNvSpPr/>
                  <p:nvPr/>
                </p:nvSpPr>
                <p:spPr>
                  <a:xfrm>
                    <a:off x="5193000" y="3198600"/>
                    <a:ext cx="201960" cy="4680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07" name="Straight Connector 249"/>
                  <p:cNvSpPr/>
                  <p:nvPr/>
                </p:nvSpPr>
                <p:spPr>
                  <a:xfrm>
                    <a:off x="5158800" y="3367080"/>
                    <a:ext cx="197640" cy="2088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</p:grpSp>
            <p:grpSp>
              <p:nvGrpSpPr>
                <p:cNvPr id="208" name="Group 132"/>
                <p:cNvGrpSpPr/>
                <p:nvPr/>
              </p:nvGrpSpPr>
              <p:grpSpPr>
                <a:xfrm>
                  <a:off x="7856640" y="3646080"/>
                  <a:ext cx="312120" cy="487080"/>
                  <a:chOff x="7856640" y="3646080"/>
                  <a:chExt cx="312120" cy="487080"/>
                </a:xfrm>
              </p:grpSpPr>
              <p:sp>
                <p:nvSpPr>
                  <p:cNvPr id="209" name="Straight Connector 242"/>
                  <p:cNvSpPr/>
                  <p:nvPr/>
                </p:nvSpPr>
                <p:spPr>
                  <a:xfrm flipH="1" flipV="1">
                    <a:off x="7856640" y="4049280"/>
                    <a:ext cx="188280" cy="8388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10" name="Straight Connector 243"/>
                  <p:cNvSpPr/>
                  <p:nvPr/>
                </p:nvSpPr>
                <p:spPr>
                  <a:xfrm flipH="1" flipV="1">
                    <a:off x="7893000" y="3911040"/>
                    <a:ext cx="194760" cy="5940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11" name="Straight Connector 244"/>
                  <p:cNvSpPr/>
                  <p:nvPr/>
                </p:nvSpPr>
                <p:spPr>
                  <a:xfrm flipH="1" flipV="1">
                    <a:off x="7933320" y="3779640"/>
                    <a:ext cx="199800" cy="4608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12" name="Straight Connector 245"/>
                  <p:cNvSpPr/>
                  <p:nvPr/>
                </p:nvSpPr>
                <p:spPr>
                  <a:xfrm flipH="1" flipV="1">
                    <a:off x="7966440" y="3646080"/>
                    <a:ext cx="202320" cy="2124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</p:grpSp>
          </p:grpSp>
          <p:grpSp>
            <p:nvGrpSpPr>
              <p:cNvPr id="213" name="Group 141"/>
              <p:cNvGrpSpPr/>
              <p:nvPr/>
            </p:nvGrpSpPr>
            <p:grpSpPr>
              <a:xfrm>
                <a:off x="5431680" y="2294280"/>
                <a:ext cx="2465280" cy="2446560"/>
                <a:chOff x="5431680" y="2294280"/>
                <a:chExt cx="2465280" cy="2446560"/>
              </a:xfrm>
            </p:grpSpPr>
            <p:grpSp>
              <p:nvGrpSpPr>
                <p:cNvPr id="214" name="Group 142"/>
                <p:cNvGrpSpPr/>
                <p:nvPr/>
              </p:nvGrpSpPr>
              <p:grpSpPr>
                <a:xfrm>
                  <a:off x="5431680" y="2294280"/>
                  <a:ext cx="469440" cy="458280"/>
                  <a:chOff x="5431680" y="2294280"/>
                  <a:chExt cx="469440" cy="458280"/>
                </a:xfrm>
              </p:grpSpPr>
              <p:sp>
                <p:nvSpPr>
                  <p:cNvPr id="215" name="Straight Connector 236"/>
                  <p:cNvSpPr/>
                  <p:nvPr/>
                </p:nvSpPr>
                <p:spPr>
                  <a:xfrm>
                    <a:off x="5778360" y="2294280"/>
                    <a:ext cx="122760" cy="16884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16" name="Straight Connector 237"/>
                  <p:cNvSpPr/>
                  <p:nvPr/>
                </p:nvSpPr>
                <p:spPr>
                  <a:xfrm>
                    <a:off x="5661720" y="2403720"/>
                    <a:ext cx="141480" cy="15156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17" name="Straight Connector 238"/>
                  <p:cNvSpPr/>
                  <p:nvPr/>
                </p:nvSpPr>
                <p:spPr>
                  <a:xfrm>
                    <a:off x="5545800" y="2517480"/>
                    <a:ext cx="153000" cy="14256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18" name="Straight Connector 239"/>
                  <p:cNvSpPr/>
                  <p:nvPr/>
                </p:nvSpPr>
                <p:spPr>
                  <a:xfrm>
                    <a:off x="5431680" y="2630520"/>
                    <a:ext cx="167760" cy="12204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</p:grpSp>
            <p:grpSp>
              <p:nvGrpSpPr>
                <p:cNvPr id="219" name="Group 143"/>
                <p:cNvGrpSpPr/>
                <p:nvPr/>
              </p:nvGrpSpPr>
              <p:grpSpPr>
                <a:xfrm>
                  <a:off x="7447320" y="4295880"/>
                  <a:ext cx="449640" cy="444960"/>
                  <a:chOff x="7447320" y="4295880"/>
                  <a:chExt cx="449640" cy="444960"/>
                </a:xfrm>
              </p:grpSpPr>
              <p:sp>
                <p:nvSpPr>
                  <p:cNvPr id="220" name="Straight Connector 232"/>
                  <p:cNvSpPr/>
                  <p:nvPr/>
                </p:nvSpPr>
                <p:spPr>
                  <a:xfrm flipH="1" flipV="1">
                    <a:off x="7447320" y="4590720"/>
                    <a:ext cx="109080" cy="15012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21" name="Straight Connector 233"/>
                  <p:cNvSpPr/>
                  <p:nvPr/>
                </p:nvSpPr>
                <p:spPr>
                  <a:xfrm flipH="1" flipV="1">
                    <a:off x="7549920" y="4496760"/>
                    <a:ext cx="124920" cy="13392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22" name="Straight Connector 234"/>
                  <p:cNvSpPr/>
                  <p:nvPr/>
                </p:nvSpPr>
                <p:spPr>
                  <a:xfrm flipH="1" flipV="1">
                    <a:off x="7619760" y="4390560"/>
                    <a:ext cx="138960" cy="12960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23" name="Straight Connector 235"/>
                  <p:cNvSpPr/>
                  <p:nvPr/>
                </p:nvSpPr>
                <p:spPr>
                  <a:xfrm flipH="1" flipV="1">
                    <a:off x="7748640" y="4295880"/>
                    <a:ext cx="148320" cy="10764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</p:grpSp>
          </p:grpSp>
          <p:grpSp>
            <p:nvGrpSpPr>
              <p:cNvPr id="224" name="Group 152"/>
              <p:cNvGrpSpPr/>
              <p:nvPr/>
            </p:nvGrpSpPr>
            <p:grpSpPr>
              <a:xfrm>
                <a:off x="6038280" y="2015280"/>
                <a:ext cx="1244880" cy="2993400"/>
                <a:chOff x="6038280" y="2015280"/>
                <a:chExt cx="1244880" cy="2993400"/>
              </a:xfrm>
            </p:grpSpPr>
            <p:grpSp>
              <p:nvGrpSpPr>
                <p:cNvPr id="225" name="Group 153"/>
                <p:cNvGrpSpPr/>
                <p:nvPr/>
              </p:nvGrpSpPr>
              <p:grpSpPr>
                <a:xfrm>
                  <a:off x="6038280" y="2015280"/>
                  <a:ext cx="489240" cy="303840"/>
                  <a:chOff x="6038280" y="2015280"/>
                  <a:chExt cx="489240" cy="303840"/>
                </a:xfrm>
              </p:grpSpPr>
              <p:sp>
                <p:nvSpPr>
                  <p:cNvPr id="226" name="Straight Connector 226"/>
                  <p:cNvSpPr/>
                  <p:nvPr/>
                </p:nvSpPr>
                <p:spPr>
                  <a:xfrm>
                    <a:off x="6505920" y="2015280"/>
                    <a:ext cx="21600" cy="20304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27" name="Straight Connector 227"/>
                  <p:cNvSpPr/>
                  <p:nvPr/>
                </p:nvSpPr>
                <p:spPr>
                  <a:xfrm>
                    <a:off x="6348600" y="2053080"/>
                    <a:ext cx="47160" cy="20304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28" name="Straight Connector 228"/>
                  <p:cNvSpPr/>
                  <p:nvPr/>
                </p:nvSpPr>
                <p:spPr>
                  <a:xfrm>
                    <a:off x="6198840" y="2088720"/>
                    <a:ext cx="60840" cy="19944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29" name="Straight Connector 229"/>
                  <p:cNvSpPr/>
                  <p:nvPr/>
                </p:nvSpPr>
                <p:spPr>
                  <a:xfrm>
                    <a:off x="6038280" y="2131200"/>
                    <a:ext cx="83520" cy="18792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</p:grpSp>
            <p:grpSp>
              <p:nvGrpSpPr>
                <p:cNvPr id="230" name="Group 154"/>
                <p:cNvGrpSpPr/>
                <p:nvPr/>
              </p:nvGrpSpPr>
              <p:grpSpPr>
                <a:xfrm>
                  <a:off x="6797520" y="4729680"/>
                  <a:ext cx="485640" cy="279000"/>
                  <a:chOff x="6797520" y="4729680"/>
                  <a:chExt cx="485640" cy="279000"/>
                </a:xfrm>
              </p:grpSpPr>
              <p:sp>
                <p:nvSpPr>
                  <p:cNvPr id="231" name="Straight Connector 222"/>
                  <p:cNvSpPr/>
                  <p:nvPr/>
                </p:nvSpPr>
                <p:spPr>
                  <a:xfrm flipH="1" flipV="1">
                    <a:off x="6797520" y="4815360"/>
                    <a:ext cx="20520" cy="19332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32" name="Straight Connector 223"/>
                  <p:cNvSpPr/>
                  <p:nvPr/>
                </p:nvSpPr>
                <p:spPr>
                  <a:xfrm flipH="1" flipV="1">
                    <a:off x="6931080" y="4785840"/>
                    <a:ext cx="46080" cy="20016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33" name="Straight Connector 224"/>
                  <p:cNvSpPr/>
                  <p:nvPr/>
                </p:nvSpPr>
                <p:spPr>
                  <a:xfrm flipH="1" flipV="1">
                    <a:off x="7069680" y="4750920"/>
                    <a:ext cx="60120" cy="19620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34" name="Straight Connector 225"/>
                  <p:cNvSpPr/>
                  <p:nvPr/>
                </p:nvSpPr>
                <p:spPr>
                  <a:xfrm flipH="1" flipV="1">
                    <a:off x="7210080" y="4729680"/>
                    <a:ext cx="73080" cy="16416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</p:grpSp>
          </p:grpSp>
          <p:grpSp>
            <p:nvGrpSpPr>
              <p:cNvPr id="235" name="Group 163"/>
              <p:cNvGrpSpPr/>
              <p:nvPr/>
            </p:nvGrpSpPr>
            <p:grpSpPr>
              <a:xfrm>
                <a:off x="6050880" y="2023920"/>
                <a:ext cx="1223280" cy="2986560"/>
                <a:chOff x="6050880" y="2023920"/>
                <a:chExt cx="1223280" cy="2986560"/>
              </a:xfrm>
            </p:grpSpPr>
            <p:grpSp>
              <p:nvGrpSpPr>
                <p:cNvPr id="236" name="Group 164"/>
                <p:cNvGrpSpPr/>
                <p:nvPr/>
              </p:nvGrpSpPr>
              <p:grpSpPr>
                <a:xfrm>
                  <a:off x="6793920" y="2023920"/>
                  <a:ext cx="480240" cy="298080"/>
                  <a:chOff x="6793920" y="2023920"/>
                  <a:chExt cx="480240" cy="298080"/>
                </a:xfrm>
              </p:grpSpPr>
              <p:sp>
                <p:nvSpPr>
                  <p:cNvPr id="237" name="Straight Connector 216"/>
                  <p:cNvSpPr/>
                  <p:nvPr/>
                </p:nvSpPr>
                <p:spPr>
                  <a:xfrm flipH="1">
                    <a:off x="7199280" y="2153520"/>
                    <a:ext cx="74880" cy="16848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38" name="Straight Connector 217"/>
                  <p:cNvSpPr/>
                  <p:nvPr/>
                </p:nvSpPr>
                <p:spPr>
                  <a:xfrm flipH="1">
                    <a:off x="7062840" y="2089800"/>
                    <a:ext cx="61560" cy="20124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39" name="Straight Connector 218"/>
                  <p:cNvSpPr/>
                  <p:nvPr/>
                </p:nvSpPr>
                <p:spPr>
                  <a:xfrm flipH="1">
                    <a:off x="6927120" y="2067120"/>
                    <a:ext cx="41400" cy="17964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40" name="Straight Connector 219"/>
                  <p:cNvSpPr/>
                  <p:nvPr/>
                </p:nvSpPr>
                <p:spPr>
                  <a:xfrm flipH="1">
                    <a:off x="6793920" y="2023920"/>
                    <a:ext cx="19440" cy="18324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</p:grpSp>
            <p:grpSp>
              <p:nvGrpSpPr>
                <p:cNvPr id="241" name="Group 165"/>
                <p:cNvGrpSpPr/>
                <p:nvPr/>
              </p:nvGrpSpPr>
              <p:grpSpPr>
                <a:xfrm>
                  <a:off x="6050880" y="4712400"/>
                  <a:ext cx="484200" cy="298080"/>
                  <a:chOff x="6050880" y="4712400"/>
                  <a:chExt cx="484200" cy="298080"/>
                </a:xfrm>
              </p:grpSpPr>
              <p:sp>
                <p:nvSpPr>
                  <p:cNvPr id="242" name="Straight Connector 212"/>
                  <p:cNvSpPr/>
                  <p:nvPr/>
                </p:nvSpPr>
                <p:spPr>
                  <a:xfrm flipV="1">
                    <a:off x="6050880" y="4712400"/>
                    <a:ext cx="81000" cy="18180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43" name="Straight Connector 213"/>
                  <p:cNvSpPr/>
                  <p:nvPr/>
                </p:nvSpPr>
                <p:spPr>
                  <a:xfrm flipV="1">
                    <a:off x="6205680" y="4751640"/>
                    <a:ext cx="59760" cy="19548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44" name="Straight Connector 214"/>
                  <p:cNvSpPr/>
                  <p:nvPr/>
                </p:nvSpPr>
                <p:spPr>
                  <a:xfrm flipV="1">
                    <a:off x="6357960" y="4784040"/>
                    <a:ext cx="45000" cy="19512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45" name="Straight Connector 215"/>
                  <p:cNvSpPr/>
                  <p:nvPr/>
                </p:nvSpPr>
                <p:spPr>
                  <a:xfrm flipV="1">
                    <a:off x="6516360" y="4831560"/>
                    <a:ext cx="18720" cy="17892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</p:grpSp>
          </p:grpSp>
          <p:grpSp>
            <p:nvGrpSpPr>
              <p:cNvPr id="246" name="Group 174"/>
              <p:cNvGrpSpPr/>
              <p:nvPr/>
            </p:nvGrpSpPr>
            <p:grpSpPr>
              <a:xfrm>
                <a:off x="5443560" y="2281320"/>
                <a:ext cx="2448000" cy="2452680"/>
                <a:chOff x="5443560" y="2281320"/>
                <a:chExt cx="2448000" cy="2452680"/>
              </a:xfrm>
            </p:grpSpPr>
            <p:grpSp>
              <p:nvGrpSpPr>
                <p:cNvPr id="247" name="Group 175"/>
                <p:cNvGrpSpPr/>
                <p:nvPr/>
              </p:nvGrpSpPr>
              <p:grpSpPr>
                <a:xfrm>
                  <a:off x="7432920" y="2281320"/>
                  <a:ext cx="458640" cy="463680"/>
                  <a:chOff x="7432920" y="2281320"/>
                  <a:chExt cx="458640" cy="463680"/>
                </a:xfrm>
              </p:grpSpPr>
              <p:sp>
                <p:nvSpPr>
                  <p:cNvPr id="248" name="Straight Connector 206"/>
                  <p:cNvSpPr/>
                  <p:nvPr/>
                </p:nvSpPr>
                <p:spPr>
                  <a:xfrm flipH="1">
                    <a:off x="7730640" y="2628360"/>
                    <a:ext cx="160920" cy="11664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49" name="Straight Connector 207"/>
                  <p:cNvSpPr/>
                  <p:nvPr/>
                </p:nvSpPr>
                <p:spPr>
                  <a:xfrm flipH="1">
                    <a:off x="7632360" y="2515320"/>
                    <a:ext cx="148680" cy="13896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50" name="Straight Connector 208"/>
                  <p:cNvSpPr/>
                  <p:nvPr/>
                </p:nvSpPr>
                <p:spPr>
                  <a:xfrm flipH="1">
                    <a:off x="7545600" y="2410560"/>
                    <a:ext cx="135360" cy="14544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51" name="Straight Connector 209"/>
                  <p:cNvSpPr/>
                  <p:nvPr/>
                </p:nvSpPr>
                <p:spPr>
                  <a:xfrm flipH="1">
                    <a:off x="7432920" y="2281320"/>
                    <a:ext cx="123840" cy="17028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</p:grpSp>
            <p:grpSp>
              <p:nvGrpSpPr>
                <p:cNvPr id="252" name="Group 176"/>
                <p:cNvGrpSpPr/>
                <p:nvPr/>
              </p:nvGrpSpPr>
              <p:grpSpPr>
                <a:xfrm>
                  <a:off x="5443560" y="4299120"/>
                  <a:ext cx="453240" cy="434880"/>
                  <a:chOff x="5443560" y="4299120"/>
                  <a:chExt cx="453240" cy="434880"/>
                </a:xfrm>
              </p:grpSpPr>
              <p:sp>
                <p:nvSpPr>
                  <p:cNvPr id="253" name="Straight Connector 202"/>
                  <p:cNvSpPr/>
                  <p:nvPr/>
                </p:nvSpPr>
                <p:spPr>
                  <a:xfrm flipV="1">
                    <a:off x="5443560" y="4299120"/>
                    <a:ext cx="149400" cy="10872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54" name="Straight Connector 203"/>
                  <p:cNvSpPr/>
                  <p:nvPr/>
                </p:nvSpPr>
                <p:spPr>
                  <a:xfrm flipV="1">
                    <a:off x="5554800" y="4397760"/>
                    <a:ext cx="135000" cy="12564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55" name="Straight Connector 204"/>
                  <p:cNvSpPr/>
                  <p:nvPr/>
                </p:nvSpPr>
                <p:spPr>
                  <a:xfrm flipV="1">
                    <a:off x="5676840" y="4485600"/>
                    <a:ext cx="134640" cy="14472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  <p:sp>
                <p:nvSpPr>
                  <p:cNvPr id="256" name="Straight Connector 205"/>
                  <p:cNvSpPr/>
                  <p:nvPr/>
                </p:nvSpPr>
                <p:spPr>
                  <a:xfrm flipV="1">
                    <a:off x="5793840" y="4592160"/>
                    <a:ext cx="102960" cy="141840"/>
                  </a:xfrm>
                  <a:prstGeom prst="line">
                    <a:avLst/>
                  </a:prstGeom>
                  <a:ln cap="rnd" w="28440">
                    <a:solidFill>
                      <a:srgbClr val="e8e8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1c1c"/>
                      </a:solidFill>
                      <a:latin typeface="Twinkl"/>
                    </a:endParaRPr>
                  </a:p>
                </p:txBody>
              </p:sp>
            </p:grpSp>
          </p:grpSp>
        </p:grpSp>
        <p:grpSp>
          <p:nvGrpSpPr>
            <p:cNvPr id="257" name="Group 100"/>
            <p:cNvGrpSpPr/>
            <p:nvPr/>
          </p:nvGrpSpPr>
          <p:grpSpPr>
            <a:xfrm>
              <a:off x="5339160" y="2180160"/>
              <a:ext cx="2631600" cy="2682360"/>
              <a:chOff x="5339160" y="2180160"/>
              <a:chExt cx="2631600" cy="2682360"/>
            </a:xfrm>
          </p:grpSpPr>
          <p:sp>
            <p:nvSpPr>
              <p:cNvPr id="258" name="Straight Connector 188"/>
              <p:cNvSpPr/>
              <p:nvPr/>
            </p:nvSpPr>
            <p:spPr>
              <a:xfrm flipH="1">
                <a:off x="7299000" y="2180160"/>
                <a:ext cx="137160" cy="237600"/>
              </a:xfrm>
              <a:prstGeom prst="line">
                <a:avLst/>
              </a:prstGeom>
              <a:ln cap="rnd" w="572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Twinkl"/>
                </a:endParaRPr>
              </a:p>
            </p:txBody>
          </p:sp>
          <p:sp>
            <p:nvSpPr>
              <p:cNvPr id="259" name="Straight Connector 189"/>
              <p:cNvSpPr/>
              <p:nvPr/>
            </p:nvSpPr>
            <p:spPr>
              <a:xfrm flipH="1">
                <a:off x="5888160" y="4624920"/>
                <a:ext cx="137160" cy="237600"/>
              </a:xfrm>
              <a:prstGeom prst="line">
                <a:avLst/>
              </a:prstGeom>
              <a:ln cap="rnd" w="572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Twinkl"/>
                </a:endParaRPr>
              </a:p>
            </p:txBody>
          </p:sp>
          <p:sp>
            <p:nvSpPr>
              <p:cNvPr id="260" name="Straight Connector 190"/>
              <p:cNvSpPr/>
              <p:nvPr/>
            </p:nvSpPr>
            <p:spPr>
              <a:xfrm>
                <a:off x="7733520" y="4145400"/>
                <a:ext cx="237240" cy="137160"/>
              </a:xfrm>
              <a:prstGeom prst="line">
                <a:avLst/>
              </a:prstGeom>
              <a:ln cap="rnd" w="572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Twinkl"/>
                </a:endParaRPr>
              </a:p>
            </p:txBody>
          </p:sp>
          <p:sp>
            <p:nvSpPr>
              <p:cNvPr id="261" name="Straight Connector 191"/>
              <p:cNvSpPr/>
              <p:nvPr/>
            </p:nvSpPr>
            <p:spPr>
              <a:xfrm>
                <a:off x="5339160" y="2763360"/>
                <a:ext cx="237600" cy="137160"/>
              </a:xfrm>
              <a:prstGeom prst="line">
                <a:avLst/>
              </a:prstGeom>
              <a:ln cap="rnd" w="572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Twinkl"/>
                </a:endParaRPr>
              </a:p>
            </p:txBody>
          </p:sp>
        </p:grpSp>
        <p:grpSp>
          <p:nvGrpSpPr>
            <p:cNvPr id="262" name="Group 105"/>
            <p:cNvGrpSpPr/>
            <p:nvPr/>
          </p:nvGrpSpPr>
          <p:grpSpPr>
            <a:xfrm>
              <a:off x="5320440" y="2199240"/>
              <a:ext cx="2680200" cy="2626560"/>
              <a:chOff x="5320440" y="2199240"/>
              <a:chExt cx="2680200" cy="2626560"/>
            </a:xfrm>
          </p:grpSpPr>
          <p:sp>
            <p:nvSpPr>
              <p:cNvPr id="263" name="Straight Connector 184"/>
              <p:cNvSpPr/>
              <p:nvPr/>
            </p:nvSpPr>
            <p:spPr>
              <a:xfrm flipH="1">
                <a:off x="7762320" y="2745360"/>
                <a:ext cx="238320" cy="137520"/>
              </a:xfrm>
              <a:prstGeom prst="line">
                <a:avLst/>
              </a:prstGeom>
              <a:ln cap="rnd" w="572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Twinkl"/>
                </a:endParaRPr>
              </a:p>
            </p:txBody>
          </p:sp>
          <p:sp>
            <p:nvSpPr>
              <p:cNvPr id="264" name="Straight Connector 185"/>
              <p:cNvSpPr/>
              <p:nvPr/>
            </p:nvSpPr>
            <p:spPr>
              <a:xfrm flipH="1">
                <a:off x="5320440" y="4160880"/>
                <a:ext cx="238320" cy="137520"/>
              </a:xfrm>
              <a:prstGeom prst="line">
                <a:avLst/>
              </a:prstGeom>
              <a:ln cap="rnd" w="572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Twinkl"/>
                </a:endParaRPr>
              </a:p>
            </p:txBody>
          </p:sp>
          <p:sp>
            <p:nvSpPr>
              <p:cNvPr id="265" name="Straight Connector 186"/>
              <p:cNvSpPr/>
              <p:nvPr/>
            </p:nvSpPr>
            <p:spPr>
              <a:xfrm>
                <a:off x="7293960" y="4587480"/>
                <a:ext cx="137520" cy="238320"/>
              </a:xfrm>
              <a:prstGeom prst="line">
                <a:avLst/>
              </a:prstGeom>
              <a:ln cap="rnd" w="572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Twinkl"/>
                </a:endParaRPr>
              </a:p>
            </p:txBody>
          </p:sp>
          <p:sp>
            <p:nvSpPr>
              <p:cNvPr id="266" name="Straight Connector 187"/>
              <p:cNvSpPr/>
              <p:nvPr/>
            </p:nvSpPr>
            <p:spPr>
              <a:xfrm>
                <a:off x="5907240" y="2199240"/>
                <a:ext cx="137520" cy="237960"/>
              </a:xfrm>
              <a:prstGeom prst="line">
                <a:avLst/>
              </a:prstGeom>
              <a:ln cap="rnd" w="572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Twinkl"/>
                </a:endParaRPr>
              </a:p>
            </p:txBody>
          </p:sp>
        </p:grpSp>
      </p:grpSp>
      <p:sp>
        <p:nvSpPr>
          <p:cNvPr id="267" name="Oval 266"/>
          <p:cNvSpPr/>
          <p:nvPr/>
        </p:nvSpPr>
        <p:spPr>
          <a:xfrm>
            <a:off x="6589800" y="3446640"/>
            <a:ext cx="147600" cy="147600"/>
          </a:xfrm>
          <a:prstGeom prst="ellips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268" name="Group 267"/>
          <p:cNvGrpSpPr/>
          <p:nvPr/>
        </p:nvGrpSpPr>
        <p:grpSpPr>
          <a:xfrm>
            <a:off x="6659640" y="2421000"/>
            <a:ext cx="7920" cy="2208240"/>
            <a:chOff x="6659640" y="2421000"/>
            <a:chExt cx="7920" cy="2208240"/>
          </a:xfrm>
        </p:grpSpPr>
        <p:sp>
          <p:nvSpPr>
            <p:cNvPr id="269" name="Straight Connector 268"/>
            <p:cNvSpPr/>
            <p:nvPr/>
          </p:nvSpPr>
          <p:spPr>
            <a:xfrm>
              <a:off x="6659640" y="2421000"/>
              <a:ext cx="4680" cy="1104840"/>
            </a:xfrm>
            <a:prstGeom prst="line">
              <a:avLst/>
            </a:prstGeom>
            <a:ln w="381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70" name="Straight Connector 269"/>
            <p:cNvSpPr/>
            <p:nvPr/>
          </p:nvSpPr>
          <p:spPr>
            <a:xfrm>
              <a:off x="6662880" y="3524400"/>
              <a:ext cx="4680" cy="1104840"/>
            </a:xfrm>
            <a:prstGeom prst="line">
              <a:avLst/>
            </a:prstGeom>
            <a:ln w="38160">
              <a:solidFill>
                <a:srgbClr val="bca017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grpSp>
        <p:nvGrpSpPr>
          <p:cNvPr id="271" name="Start Button"/>
          <p:cNvGrpSpPr/>
          <p:nvPr/>
        </p:nvGrpSpPr>
        <p:grpSpPr>
          <a:xfrm>
            <a:off x="5673600" y="5342040"/>
            <a:ext cx="1982880" cy="609480"/>
            <a:chOff x="5673600" y="5342040"/>
            <a:chExt cx="1982880" cy="609480"/>
          </a:xfrm>
        </p:grpSpPr>
        <p:sp>
          <p:nvSpPr>
            <p:cNvPr id="272" name="Rounded Rectangle 271"/>
            <p:cNvSpPr/>
            <p:nvPr/>
          </p:nvSpPr>
          <p:spPr>
            <a:xfrm>
              <a:off x="5673600" y="5342040"/>
              <a:ext cx="1982880" cy="609480"/>
            </a:xfrm>
            <a:prstGeom prst="roundRect">
              <a:avLst>
                <a:gd name="adj" fmla="val 16667"/>
              </a:avLst>
            </a:prstGeom>
            <a:solidFill>
              <a:srgbClr val="ee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73" name="Content Placeholder 6"/>
            <p:cNvSpPr/>
            <p:nvPr/>
          </p:nvSpPr>
          <p:spPr>
            <a:xfrm>
              <a:off x="5673600" y="5349960"/>
              <a:ext cx="1982880" cy="593640"/>
            </a:xfrm>
            <a:prstGeom prst="roundRect">
              <a:avLst>
                <a:gd name="adj" fmla="val 25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tIns="252000" bIns="252000" anchor="ctr">
              <a:normAutofit fontScale="27000"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winkl"/>
                  <a:ea typeface="Sassoon Infant Rg"/>
                </a:rPr>
                <a:t>Start</a:t>
              </a:r>
              <a:endParaRPr b="0" lang="en-US" sz="24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grpSp>
        <p:nvGrpSpPr>
          <p:cNvPr id="274" name="Group 14"/>
          <p:cNvGrpSpPr/>
          <p:nvPr/>
        </p:nvGrpSpPr>
        <p:grpSpPr>
          <a:xfrm>
            <a:off x="739800" y="1523880"/>
            <a:ext cx="3827520" cy="4573800"/>
            <a:chOff x="739800" y="1523880"/>
            <a:chExt cx="3827520" cy="4573800"/>
          </a:xfrm>
        </p:grpSpPr>
        <p:sp>
          <p:nvSpPr>
            <p:cNvPr id="275" name="Rectangle 3"/>
            <p:cNvSpPr/>
            <p:nvPr/>
          </p:nvSpPr>
          <p:spPr>
            <a:xfrm>
              <a:off x="750600" y="1523880"/>
              <a:ext cx="3816720" cy="3503880"/>
            </a:xfrm>
            <a:prstGeom prst="rect">
              <a:avLst/>
            </a:prstGeom>
            <a:solidFill>
              <a:srgbClr val="d8e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76" name="Rectangle 273"/>
            <p:cNvSpPr/>
            <p:nvPr/>
          </p:nvSpPr>
          <p:spPr>
            <a:xfrm>
              <a:off x="739800" y="4959360"/>
              <a:ext cx="3827520" cy="1138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4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77" name="Rectangle 1"/>
            <p:cNvSpPr/>
            <p:nvPr/>
          </p:nvSpPr>
          <p:spPr>
            <a:xfrm>
              <a:off x="809640" y="2253600"/>
              <a:ext cx="369972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As a </a:t>
              </a:r>
              <a:r>
                <a:rPr b="1" lang="en-GB" sz="32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girl</a:t>
              </a:r>
              <a:r>
                <a:rPr b="0" lang="en-GB" sz="32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 walked to </a:t>
              </a:r>
              <a:r>
                <a:rPr b="1" lang="en-GB" sz="32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church</a:t>
              </a:r>
              <a:r>
                <a:rPr b="0" lang="en-GB" sz="32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, a </a:t>
              </a:r>
              <a:r>
                <a:rPr b="1" lang="en-GB" sz="32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bird</a:t>
              </a:r>
              <a:r>
                <a:rPr b="0" lang="en-GB" sz="32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 flew into her balloon and it </a:t>
              </a:r>
              <a:r>
                <a:rPr b="1" lang="en-GB" sz="32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burst</a:t>
              </a:r>
              <a:r>
                <a:rPr b="0" lang="en-GB" sz="32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.</a:t>
              </a:r>
              <a:endParaRPr b="0" lang="en-US" sz="32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78" name="Rectangle 2"/>
            <p:cNvSpPr/>
            <p:nvPr/>
          </p:nvSpPr>
          <p:spPr>
            <a:xfrm>
              <a:off x="832680" y="5028480"/>
              <a:ext cx="364176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Write them as many times as you can in </a:t>
              </a: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2 minutes</a:t>
              </a: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.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Ready, steady, write!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sp>
        <p:nvSpPr>
          <p:cNvPr id="279" name="Rectangle 24"/>
          <p:cNvSpPr/>
          <p:nvPr/>
        </p:nvSpPr>
        <p:spPr>
          <a:xfrm>
            <a:off x="763560" y="765000"/>
            <a:ext cx="7624800" cy="846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72727"/>
                </a:solidFill>
                <a:latin typeface="Twinkl"/>
                <a:ea typeface="Clear Sans Light"/>
              </a:rPr>
              <a:t>Read this sentence with your friend and count the words with the phoneme /er/ in them (but not necessarily spelt with ‘er’)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4676760" y="1695600"/>
            <a:ext cx="3805200" cy="3571560"/>
          </a:xfrm>
          <a:prstGeom prst="rect">
            <a:avLst/>
          </a:prstGeom>
          <a:solidFill>
            <a:srgbClr val="f8f2f7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281" name="Start Button"/>
          <p:cNvGrpSpPr/>
          <p:nvPr/>
        </p:nvGrpSpPr>
        <p:grpSpPr>
          <a:xfrm>
            <a:off x="5673600" y="5342040"/>
            <a:ext cx="1982880" cy="609480"/>
            <a:chOff x="5673600" y="5342040"/>
            <a:chExt cx="1982880" cy="609480"/>
          </a:xfrm>
        </p:grpSpPr>
        <p:sp>
          <p:nvSpPr>
            <p:cNvPr id="282" name="Rounded Rectangle 275"/>
            <p:cNvSpPr/>
            <p:nvPr/>
          </p:nvSpPr>
          <p:spPr>
            <a:xfrm>
              <a:off x="5673600" y="5342040"/>
              <a:ext cx="1982880" cy="6094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83" name="Content Placeholder 6"/>
            <p:cNvSpPr/>
            <p:nvPr/>
          </p:nvSpPr>
          <p:spPr>
            <a:xfrm>
              <a:off x="5673600" y="5349960"/>
              <a:ext cx="1982880" cy="593640"/>
            </a:xfrm>
            <a:prstGeom prst="roundRect">
              <a:avLst>
                <a:gd name="adj" fmla="val 25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tIns="252000" bIns="252000" anchor="ctr">
              <a:normAutofit fontScale="27000"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winkl"/>
                  <a:ea typeface="Sassoon Infant Rg"/>
                </a:rPr>
                <a:t>Stop</a:t>
              </a:r>
              <a:endParaRPr b="0" lang="en-US" sz="24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120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20000"/>
                            </p:stCondLst>
                            <p:childTnLst>
                              <p:par>
                                <p:cTn id="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21"/>
          <p:cNvSpPr/>
          <p:nvPr/>
        </p:nvSpPr>
        <p:spPr>
          <a:xfrm>
            <a:off x="2259000" y="3036960"/>
            <a:ext cx="578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c1c1c"/>
                </a:solidFill>
                <a:latin typeface="Twinkl"/>
                <a:ea typeface="Sassoon Infant Rg"/>
              </a:rPr>
              <a:t>_ _ _ _ </a:t>
            </a:r>
            <a:r>
              <a:rPr b="0" lang="en-GB" sz="4400" spc="-1" strike="noStrike" u="sng">
                <a:solidFill>
                  <a:srgbClr val="1c1c1c"/>
                </a:solidFill>
                <a:uFillTx/>
                <a:latin typeface="Twinkl"/>
                <a:ea typeface="Sassoon Infant Rg"/>
              </a:rPr>
              <a:t>a</a:t>
            </a:r>
            <a:r>
              <a:rPr b="0" lang="en-GB" sz="4400" spc="-1" strike="noStrike">
                <a:solidFill>
                  <a:srgbClr val="1c1c1c"/>
                </a:solidFill>
                <a:latin typeface="Twinkl"/>
                <a:ea typeface="Sassoon Infant Rg"/>
              </a:rPr>
              <a:t> _</a:t>
            </a:r>
            <a:endParaRPr b="0" lang="en-US" sz="44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85" name="Picture 5" descr=""/>
          <p:cNvPicPr/>
          <p:nvPr/>
        </p:nvPicPr>
        <p:blipFill>
          <a:blip r:embed="rId1"/>
          <a:srcRect l="0" t="0" r="0" b="35813"/>
          <a:stretch/>
        </p:blipFill>
        <p:spPr>
          <a:xfrm>
            <a:off x="5999040" y="3036960"/>
            <a:ext cx="2605320" cy="3363840"/>
          </a:xfrm>
          <a:prstGeom prst="rect">
            <a:avLst/>
          </a:prstGeom>
          <a:ln w="0">
            <a:noFill/>
          </a:ln>
        </p:spPr>
      </p:pic>
      <p:sp>
        <p:nvSpPr>
          <p:cNvPr id="286" name="Oh no! Button"/>
          <p:cNvSpPr/>
          <p:nvPr/>
        </p:nvSpPr>
        <p:spPr>
          <a:xfrm>
            <a:off x="1476360" y="4772160"/>
            <a:ext cx="1555920" cy="987120"/>
          </a:xfrm>
          <a:prstGeom prst="roundRect">
            <a:avLst>
              <a:gd name="adj" fmla="val 16667"/>
            </a:avLst>
          </a:prstGeom>
          <a:solidFill>
            <a:srgbClr val="ff4343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winkl"/>
              </a:rPr>
              <a:t>Uh-Oh!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87" name="Picture 11" descr=""/>
          <p:cNvPicPr/>
          <p:nvPr/>
        </p:nvPicPr>
        <p:blipFill>
          <a:blip r:embed="rId2"/>
          <a:stretch/>
        </p:blipFill>
        <p:spPr>
          <a:xfrm>
            <a:off x="1243080" y="2592360"/>
            <a:ext cx="385560" cy="1276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"/>
          <p:cNvPicPr/>
          <p:nvPr/>
        </p:nvPicPr>
        <p:blipFill>
          <a:blip r:embed="rId3"/>
          <a:stretch/>
        </p:blipFill>
        <p:spPr>
          <a:xfrm>
            <a:off x="1739880" y="259236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3" descr=""/>
          <p:cNvPicPr/>
          <p:nvPr/>
        </p:nvPicPr>
        <p:blipFill>
          <a:blip r:embed="rId4"/>
          <a:stretch/>
        </p:blipFill>
        <p:spPr>
          <a:xfrm>
            <a:off x="2259000" y="259236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4" descr=""/>
          <p:cNvPicPr/>
          <p:nvPr/>
        </p:nvPicPr>
        <p:blipFill>
          <a:blip r:embed="rId5"/>
          <a:stretch/>
        </p:blipFill>
        <p:spPr>
          <a:xfrm>
            <a:off x="2778120" y="2592360"/>
            <a:ext cx="387360" cy="1276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5" descr=""/>
          <p:cNvPicPr/>
          <p:nvPr/>
        </p:nvPicPr>
        <p:blipFill>
          <a:blip r:embed="rId6"/>
          <a:stretch/>
        </p:blipFill>
        <p:spPr>
          <a:xfrm>
            <a:off x="1509840" y="2635200"/>
            <a:ext cx="385560" cy="1276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6" descr=""/>
          <p:cNvPicPr/>
          <p:nvPr/>
        </p:nvPicPr>
        <p:blipFill>
          <a:blip r:embed="rId7"/>
          <a:stretch/>
        </p:blipFill>
        <p:spPr>
          <a:xfrm>
            <a:off x="2006640" y="2635200"/>
            <a:ext cx="385560" cy="12765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7" descr=""/>
          <p:cNvPicPr/>
          <p:nvPr/>
        </p:nvPicPr>
        <p:blipFill>
          <a:blip r:embed="rId8"/>
          <a:stretch/>
        </p:blipFill>
        <p:spPr>
          <a:xfrm>
            <a:off x="2525760" y="2635200"/>
            <a:ext cx="385560" cy="1276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8" descr=""/>
          <p:cNvPicPr/>
          <p:nvPr/>
        </p:nvPicPr>
        <p:blipFill>
          <a:blip r:embed="rId9"/>
          <a:stretch/>
        </p:blipFill>
        <p:spPr>
          <a:xfrm>
            <a:off x="1757520" y="2717640"/>
            <a:ext cx="385560" cy="12765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"/>
          <p:cNvSpPr/>
          <p:nvPr/>
        </p:nvSpPr>
        <p:spPr>
          <a:xfrm>
            <a:off x="631800" y="617400"/>
            <a:ext cx="7969320" cy="1624320"/>
          </a:xfrm>
          <a:prstGeom prst="rect">
            <a:avLst/>
          </a:prstGeom>
          <a:solidFill>
            <a:srgbClr val="92d05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96" name="Picture 19" descr=""/>
          <p:cNvPicPr/>
          <p:nvPr/>
        </p:nvPicPr>
        <p:blipFill>
          <a:blip r:embed="rId10"/>
          <a:stretch/>
        </p:blipFill>
        <p:spPr>
          <a:xfrm>
            <a:off x="2254320" y="2717640"/>
            <a:ext cx="385560" cy="12765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0" descr=""/>
          <p:cNvPicPr/>
          <p:nvPr/>
        </p:nvPicPr>
        <p:blipFill>
          <a:blip r:embed="rId11"/>
          <a:stretch/>
        </p:blipFill>
        <p:spPr>
          <a:xfrm>
            <a:off x="2008080" y="2692440"/>
            <a:ext cx="406440" cy="13446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2"/>
          <p:cNvSpPr/>
          <p:nvPr/>
        </p:nvSpPr>
        <p:spPr>
          <a:xfrm>
            <a:off x="809640" y="801720"/>
            <a:ext cx="761508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Let’s play ‘Ten Strikes and You’re Out!’. Click on the letters that you think are missing to try to make the contracted word in the sentence. Every time you guess a letter incorrectly, press the ‘Uh-oh’ button to make a pin disappear! Can you guess all of the missing letters before you strike out?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21"/>
          <p:cNvSpPr/>
          <p:nvPr/>
        </p:nvSpPr>
        <p:spPr>
          <a:xfrm>
            <a:off x="3179880" y="2395440"/>
            <a:ext cx="578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c1c1c"/>
                </a:solidFill>
                <a:latin typeface="Twinkl"/>
                <a:ea typeface="Sassoon Infant Rg"/>
              </a:rPr>
              <a:t>_ _ _ _ _ </a:t>
            </a:r>
            <a:endParaRPr b="0" lang="en-US" sz="4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0" name="Freeform 8"/>
          <p:cNvSpPr/>
          <p:nvPr/>
        </p:nvSpPr>
        <p:spPr>
          <a:xfrm>
            <a:off x="3798720" y="765000"/>
            <a:ext cx="4551480" cy="1203480"/>
          </a:xfrm>
          <a:custGeom>
            <a:avLst/>
            <a:gdLst/>
            <a:ahLst/>
            <a:rect l="l" t="t" r="r" b="b"/>
            <a:pathLst>
              <a:path w="4980008" h="1204087">
                <a:moveTo>
                  <a:pt x="92960" y="0"/>
                </a:moveTo>
                <a:lnTo>
                  <a:pt x="4884205" y="0"/>
                </a:lnTo>
                <a:cubicBezTo>
                  <a:pt x="4935545" y="0"/>
                  <a:pt x="4977165" y="41620"/>
                  <a:pt x="4977165" y="92960"/>
                </a:cubicBezTo>
                <a:lnTo>
                  <a:pt x="4977165" y="334321"/>
                </a:lnTo>
                <a:lnTo>
                  <a:pt x="4980008" y="349903"/>
                </a:lnTo>
                <a:lnTo>
                  <a:pt x="4980008" y="876507"/>
                </a:lnTo>
                <a:cubicBezTo>
                  <a:pt x="4980008" y="949217"/>
                  <a:pt x="4926742" y="1008161"/>
                  <a:pt x="4861036" y="1008161"/>
                </a:cubicBezTo>
                <a:lnTo>
                  <a:pt x="342091" y="1008161"/>
                </a:lnTo>
                <a:lnTo>
                  <a:pt x="266832" y="1204087"/>
                </a:lnTo>
                <a:lnTo>
                  <a:pt x="191574" y="1008161"/>
                </a:lnTo>
                <a:lnTo>
                  <a:pt x="120336" y="1008161"/>
                </a:lnTo>
                <a:cubicBezTo>
                  <a:pt x="54630" y="1008161"/>
                  <a:pt x="1364" y="949217"/>
                  <a:pt x="1364" y="876507"/>
                </a:cubicBezTo>
                <a:lnTo>
                  <a:pt x="1364" y="471545"/>
                </a:lnTo>
                <a:lnTo>
                  <a:pt x="0" y="464789"/>
                </a:lnTo>
                <a:lnTo>
                  <a:pt x="0" y="92960"/>
                </a:lnTo>
                <a:cubicBezTo>
                  <a:pt x="0" y="41620"/>
                  <a:pt x="41620" y="0"/>
                  <a:pt x="92960" y="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1" name="4-Point Star 9"/>
          <p:cNvSpPr/>
          <p:nvPr/>
        </p:nvSpPr>
        <p:spPr>
          <a:xfrm>
            <a:off x="7257960" y="2322360"/>
            <a:ext cx="276480" cy="324000"/>
          </a:xfrm>
          <a:custGeom>
            <a:avLst/>
            <a:gdLst>
              <a:gd name="textAreaLeft" fmla="*/ 113760 w 276480"/>
              <a:gd name="textAreaRight" fmla="*/ 162720 w 276480"/>
              <a:gd name="textAreaTop" fmla="*/ 133560 h 324000"/>
              <a:gd name="textAreaBottom" fmla="*/ 190440 h 3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2" name="4-Point Star 10"/>
          <p:cNvSpPr/>
          <p:nvPr/>
        </p:nvSpPr>
        <p:spPr>
          <a:xfrm>
            <a:off x="7257960" y="2322360"/>
            <a:ext cx="276480" cy="324000"/>
          </a:xfrm>
          <a:custGeom>
            <a:avLst/>
            <a:gdLst>
              <a:gd name="textAreaLeft" fmla="*/ 113760 w 276480"/>
              <a:gd name="textAreaRight" fmla="*/ 162720 w 276480"/>
              <a:gd name="textAreaTop" fmla="*/ 133560 h 324000"/>
              <a:gd name="textAreaBottom" fmla="*/ 190440 h 3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757080" y="4363920"/>
            <a:ext cx="7631280" cy="1741680"/>
          </a:xfrm>
          <a:prstGeom prst="rect">
            <a:avLst/>
          </a:prstGeom>
          <a:solidFill>
            <a:srgbClr val="ead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3916440" y="1082520"/>
            <a:ext cx="43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Twinkl"/>
                <a:ea typeface="Sassoon Infant Rg"/>
              </a:rPr>
              <a:t>If you win a race, you have come _ _ _ _ _. </a:t>
            </a:r>
            <a:endParaRPr b="0" lang="en-US" sz="1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5" name="'a'"/>
          <p:cNvSpPr/>
          <p:nvPr/>
        </p:nvSpPr>
        <p:spPr>
          <a:xfrm>
            <a:off x="111744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a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6" name="'b'"/>
          <p:cNvSpPr/>
          <p:nvPr/>
        </p:nvSpPr>
        <p:spPr>
          <a:xfrm>
            <a:off x="189864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b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7" name="'c'"/>
          <p:cNvSpPr/>
          <p:nvPr/>
        </p:nvSpPr>
        <p:spPr>
          <a:xfrm>
            <a:off x="2679840" y="44308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c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8" name="'d'"/>
          <p:cNvSpPr/>
          <p:nvPr/>
        </p:nvSpPr>
        <p:spPr>
          <a:xfrm>
            <a:off x="346068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d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9" name="'e'"/>
          <p:cNvSpPr/>
          <p:nvPr/>
        </p:nvSpPr>
        <p:spPr>
          <a:xfrm>
            <a:off x="4241880" y="44308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e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0" name="'f'"/>
          <p:cNvSpPr/>
          <p:nvPr/>
        </p:nvSpPr>
        <p:spPr>
          <a:xfrm>
            <a:off x="4749840" y="25336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f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1" name="'g'"/>
          <p:cNvSpPr/>
          <p:nvPr/>
        </p:nvSpPr>
        <p:spPr>
          <a:xfrm>
            <a:off x="5803920" y="44308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g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2" name="'h'"/>
          <p:cNvSpPr/>
          <p:nvPr/>
        </p:nvSpPr>
        <p:spPr>
          <a:xfrm>
            <a:off x="6585120" y="44308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h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3" name="'i'"/>
          <p:cNvSpPr/>
          <p:nvPr/>
        </p:nvSpPr>
        <p:spPr>
          <a:xfrm>
            <a:off x="7367760" y="443088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i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4" name="'j'"/>
          <p:cNvSpPr/>
          <p:nvPr/>
        </p:nvSpPr>
        <p:spPr>
          <a:xfrm>
            <a:off x="111744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j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5" name="'k'"/>
          <p:cNvSpPr/>
          <p:nvPr/>
        </p:nvSpPr>
        <p:spPr>
          <a:xfrm>
            <a:off x="189864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k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6" name="'l'"/>
          <p:cNvSpPr/>
          <p:nvPr/>
        </p:nvSpPr>
        <p:spPr>
          <a:xfrm>
            <a:off x="267984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l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7" name="'m'"/>
          <p:cNvSpPr/>
          <p:nvPr/>
        </p:nvSpPr>
        <p:spPr>
          <a:xfrm>
            <a:off x="346068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m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8" name="'n'"/>
          <p:cNvSpPr/>
          <p:nvPr/>
        </p:nvSpPr>
        <p:spPr>
          <a:xfrm>
            <a:off x="424188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n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9" name="'o'"/>
          <p:cNvSpPr/>
          <p:nvPr/>
        </p:nvSpPr>
        <p:spPr>
          <a:xfrm>
            <a:off x="502272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o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0" name="'p'"/>
          <p:cNvSpPr/>
          <p:nvPr/>
        </p:nvSpPr>
        <p:spPr>
          <a:xfrm>
            <a:off x="580392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p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1" name="'q'"/>
          <p:cNvSpPr/>
          <p:nvPr/>
        </p:nvSpPr>
        <p:spPr>
          <a:xfrm>
            <a:off x="658512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q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2" name="'r'"/>
          <p:cNvSpPr/>
          <p:nvPr/>
        </p:nvSpPr>
        <p:spPr>
          <a:xfrm>
            <a:off x="7367760" y="501660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r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3" name="'s'"/>
          <p:cNvSpPr/>
          <p:nvPr/>
        </p:nvSpPr>
        <p:spPr>
          <a:xfrm>
            <a:off x="1569960" y="556092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s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4" name="'t'"/>
          <p:cNvSpPr/>
          <p:nvPr/>
        </p:nvSpPr>
        <p:spPr>
          <a:xfrm>
            <a:off x="2351160" y="556092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t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5" name="'u'"/>
          <p:cNvSpPr/>
          <p:nvPr/>
        </p:nvSpPr>
        <p:spPr>
          <a:xfrm>
            <a:off x="3132000" y="556092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u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6" name="'v'"/>
          <p:cNvSpPr/>
          <p:nvPr/>
        </p:nvSpPr>
        <p:spPr>
          <a:xfrm>
            <a:off x="3913200" y="556092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v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7" name="'w'"/>
          <p:cNvSpPr/>
          <p:nvPr/>
        </p:nvSpPr>
        <p:spPr>
          <a:xfrm>
            <a:off x="469584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w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8" name="'x'"/>
          <p:cNvSpPr/>
          <p:nvPr/>
        </p:nvSpPr>
        <p:spPr>
          <a:xfrm>
            <a:off x="547704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x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9" name="'y'"/>
          <p:cNvSpPr/>
          <p:nvPr/>
        </p:nvSpPr>
        <p:spPr>
          <a:xfrm>
            <a:off x="625788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y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0" name="'z'"/>
          <p:cNvSpPr/>
          <p:nvPr/>
        </p:nvSpPr>
        <p:spPr>
          <a:xfrm>
            <a:off x="703908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z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331" name="Picture 42" descr=""/>
          <p:cNvPicPr/>
          <p:nvPr/>
        </p:nvPicPr>
        <p:blipFill>
          <a:blip r:embed="rId1"/>
          <a:stretch/>
        </p:blipFill>
        <p:spPr>
          <a:xfrm>
            <a:off x="1004760" y="1679400"/>
            <a:ext cx="385920" cy="1276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4" descr=""/>
          <p:cNvPicPr/>
          <p:nvPr/>
        </p:nvPicPr>
        <p:blipFill>
          <a:blip r:embed="rId2"/>
          <a:stretch/>
        </p:blipFill>
        <p:spPr>
          <a:xfrm>
            <a:off x="1501920" y="1679400"/>
            <a:ext cx="385560" cy="12765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5" descr=""/>
          <p:cNvPicPr/>
          <p:nvPr/>
        </p:nvPicPr>
        <p:blipFill>
          <a:blip r:embed="rId3"/>
          <a:stretch/>
        </p:blipFill>
        <p:spPr>
          <a:xfrm>
            <a:off x="2021040" y="1679400"/>
            <a:ext cx="385560" cy="12765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6" descr=""/>
          <p:cNvPicPr/>
          <p:nvPr/>
        </p:nvPicPr>
        <p:blipFill>
          <a:blip r:embed="rId4"/>
          <a:stretch/>
        </p:blipFill>
        <p:spPr>
          <a:xfrm>
            <a:off x="2540160" y="1679400"/>
            <a:ext cx="387360" cy="1276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7" descr=""/>
          <p:cNvPicPr/>
          <p:nvPr/>
        </p:nvPicPr>
        <p:blipFill>
          <a:blip r:embed="rId5"/>
          <a:stretch/>
        </p:blipFill>
        <p:spPr>
          <a:xfrm>
            <a:off x="1271520" y="172260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8" descr=""/>
          <p:cNvPicPr/>
          <p:nvPr/>
        </p:nvPicPr>
        <p:blipFill>
          <a:blip r:embed="rId6"/>
          <a:stretch/>
        </p:blipFill>
        <p:spPr>
          <a:xfrm>
            <a:off x="1768320" y="172260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9" descr=""/>
          <p:cNvPicPr/>
          <p:nvPr/>
        </p:nvPicPr>
        <p:blipFill>
          <a:blip r:embed="rId7"/>
          <a:stretch/>
        </p:blipFill>
        <p:spPr>
          <a:xfrm>
            <a:off x="2287440" y="172260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0" descr=""/>
          <p:cNvPicPr/>
          <p:nvPr/>
        </p:nvPicPr>
        <p:blipFill>
          <a:blip r:embed="rId8"/>
          <a:stretch/>
        </p:blipFill>
        <p:spPr>
          <a:xfrm>
            <a:off x="1519200" y="180504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7" descr=""/>
          <p:cNvPicPr/>
          <p:nvPr/>
        </p:nvPicPr>
        <p:blipFill>
          <a:blip r:embed="rId9"/>
          <a:stretch/>
        </p:blipFill>
        <p:spPr>
          <a:xfrm>
            <a:off x="2016000" y="1805040"/>
            <a:ext cx="385920" cy="1276200"/>
          </a:xfrm>
          <a:prstGeom prst="rect">
            <a:avLst/>
          </a:prstGeom>
          <a:ln w="0">
            <a:noFill/>
          </a:ln>
        </p:spPr>
      </p:pic>
      <p:sp>
        <p:nvSpPr>
          <p:cNvPr id="340" name="Oh no! Button"/>
          <p:cNvSpPr/>
          <p:nvPr/>
        </p:nvSpPr>
        <p:spPr>
          <a:xfrm>
            <a:off x="1427040" y="3479760"/>
            <a:ext cx="1092240" cy="619200"/>
          </a:xfrm>
          <a:prstGeom prst="roundRect">
            <a:avLst>
              <a:gd name="adj" fmla="val 16667"/>
            </a:avLst>
          </a:prstGeom>
          <a:solidFill>
            <a:srgbClr val="ff4343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Uh-Oh!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341" name="Picture 59" descr=""/>
          <p:cNvPicPr/>
          <p:nvPr/>
        </p:nvPicPr>
        <p:blipFill>
          <a:blip r:embed="rId10"/>
          <a:stretch/>
        </p:blipFill>
        <p:spPr>
          <a:xfrm>
            <a:off x="1770120" y="1779480"/>
            <a:ext cx="40644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162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192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7 L -0.2323 -0.27569 E">
                                      <p:cBhvr>
                                        <p:cTn id="195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6 L -0.17171 -0.36111 E">
                                      <p:cBhvr>
                                        <p:cTn id="200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51337 -0.43865 E">
                                      <p:cBhvr>
                                        <p:cTn id="205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48489 -0.4412 E">
                                      <p:cBhvr>
                                        <p:cTn id="210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21"/>
          <p:cNvSpPr/>
          <p:nvPr/>
        </p:nvSpPr>
        <p:spPr>
          <a:xfrm>
            <a:off x="3179880" y="2395440"/>
            <a:ext cx="578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c1c1c"/>
                </a:solidFill>
                <a:latin typeface="Twinkl"/>
                <a:ea typeface="Sassoon Infant Rg"/>
              </a:rPr>
              <a:t>_ _ _ _  </a:t>
            </a:r>
            <a:endParaRPr b="0" lang="en-US" sz="4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3" name="Freeform 8"/>
          <p:cNvSpPr/>
          <p:nvPr/>
        </p:nvSpPr>
        <p:spPr>
          <a:xfrm>
            <a:off x="3798720" y="765000"/>
            <a:ext cx="4551480" cy="1203480"/>
          </a:xfrm>
          <a:custGeom>
            <a:avLst/>
            <a:gdLst/>
            <a:ahLst/>
            <a:rect l="l" t="t" r="r" b="b"/>
            <a:pathLst>
              <a:path w="4980008" h="1204087">
                <a:moveTo>
                  <a:pt x="92960" y="0"/>
                </a:moveTo>
                <a:lnTo>
                  <a:pt x="4884205" y="0"/>
                </a:lnTo>
                <a:cubicBezTo>
                  <a:pt x="4935545" y="0"/>
                  <a:pt x="4977165" y="41620"/>
                  <a:pt x="4977165" y="92960"/>
                </a:cubicBezTo>
                <a:lnTo>
                  <a:pt x="4977165" y="334321"/>
                </a:lnTo>
                <a:lnTo>
                  <a:pt x="4980008" y="349903"/>
                </a:lnTo>
                <a:lnTo>
                  <a:pt x="4980008" y="876507"/>
                </a:lnTo>
                <a:cubicBezTo>
                  <a:pt x="4980008" y="949217"/>
                  <a:pt x="4926742" y="1008161"/>
                  <a:pt x="4861036" y="1008161"/>
                </a:cubicBezTo>
                <a:lnTo>
                  <a:pt x="342091" y="1008161"/>
                </a:lnTo>
                <a:lnTo>
                  <a:pt x="266832" y="1204087"/>
                </a:lnTo>
                <a:lnTo>
                  <a:pt x="191574" y="1008161"/>
                </a:lnTo>
                <a:lnTo>
                  <a:pt x="120336" y="1008161"/>
                </a:lnTo>
                <a:cubicBezTo>
                  <a:pt x="54630" y="1008161"/>
                  <a:pt x="1364" y="949217"/>
                  <a:pt x="1364" y="876507"/>
                </a:cubicBezTo>
                <a:lnTo>
                  <a:pt x="1364" y="471545"/>
                </a:lnTo>
                <a:lnTo>
                  <a:pt x="0" y="464789"/>
                </a:lnTo>
                <a:lnTo>
                  <a:pt x="0" y="92960"/>
                </a:lnTo>
                <a:cubicBezTo>
                  <a:pt x="0" y="41620"/>
                  <a:pt x="41620" y="0"/>
                  <a:pt x="92960" y="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4" name="4-Point Star 9"/>
          <p:cNvSpPr/>
          <p:nvPr/>
        </p:nvSpPr>
        <p:spPr>
          <a:xfrm>
            <a:off x="7257960" y="2322360"/>
            <a:ext cx="276480" cy="324000"/>
          </a:xfrm>
          <a:custGeom>
            <a:avLst/>
            <a:gdLst>
              <a:gd name="textAreaLeft" fmla="*/ 113760 w 276480"/>
              <a:gd name="textAreaRight" fmla="*/ 162720 w 276480"/>
              <a:gd name="textAreaTop" fmla="*/ 133560 h 324000"/>
              <a:gd name="textAreaBottom" fmla="*/ 190440 h 3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5" name="4-Point Star 10"/>
          <p:cNvSpPr/>
          <p:nvPr/>
        </p:nvSpPr>
        <p:spPr>
          <a:xfrm>
            <a:off x="7257960" y="2322360"/>
            <a:ext cx="276480" cy="324000"/>
          </a:xfrm>
          <a:custGeom>
            <a:avLst/>
            <a:gdLst>
              <a:gd name="textAreaLeft" fmla="*/ 113760 w 276480"/>
              <a:gd name="textAreaRight" fmla="*/ 162720 w 276480"/>
              <a:gd name="textAreaTop" fmla="*/ 133560 h 324000"/>
              <a:gd name="textAreaBottom" fmla="*/ 190440 h 3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757080" y="4363920"/>
            <a:ext cx="7631280" cy="1741680"/>
          </a:xfrm>
          <a:prstGeom prst="rect">
            <a:avLst/>
          </a:prstGeom>
          <a:solidFill>
            <a:srgbClr val="ead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7" name="Rectangle 12"/>
          <p:cNvSpPr/>
          <p:nvPr/>
        </p:nvSpPr>
        <p:spPr>
          <a:xfrm>
            <a:off x="3916440" y="950760"/>
            <a:ext cx="437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Twinkl"/>
                <a:ea typeface="Sassoon Infant Rg"/>
              </a:rPr>
              <a:t>To make a car change direction, you must</a:t>
            </a:r>
            <a:br>
              <a:rPr sz="1600"/>
            </a:br>
            <a:r>
              <a:rPr b="0" lang="en-GB" sz="1600" spc="-1" strike="noStrike">
                <a:solidFill>
                  <a:srgbClr val="1c1c1c"/>
                </a:solidFill>
                <a:latin typeface="Twinkl"/>
                <a:ea typeface="Sassoon Infant Rg"/>
              </a:rPr>
              <a:t>_ _ _ _ the steering wheel.</a:t>
            </a:r>
            <a:endParaRPr b="0" lang="en-US" sz="1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8" name="'a'"/>
          <p:cNvSpPr/>
          <p:nvPr/>
        </p:nvSpPr>
        <p:spPr>
          <a:xfrm>
            <a:off x="111744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a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9" name="'b'"/>
          <p:cNvSpPr/>
          <p:nvPr/>
        </p:nvSpPr>
        <p:spPr>
          <a:xfrm>
            <a:off x="189864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b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0" name="'c'"/>
          <p:cNvSpPr/>
          <p:nvPr/>
        </p:nvSpPr>
        <p:spPr>
          <a:xfrm>
            <a:off x="2679840" y="44308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c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1" name="'d'"/>
          <p:cNvSpPr/>
          <p:nvPr/>
        </p:nvSpPr>
        <p:spPr>
          <a:xfrm>
            <a:off x="346068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d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2" name="'e'"/>
          <p:cNvSpPr/>
          <p:nvPr/>
        </p:nvSpPr>
        <p:spPr>
          <a:xfrm>
            <a:off x="4241880" y="44308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e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3" name="'f'"/>
          <p:cNvSpPr/>
          <p:nvPr/>
        </p:nvSpPr>
        <p:spPr>
          <a:xfrm>
            <a:off x="502272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f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4" name="'g'"/>
          <p:cNvSpPr/>
          <p:nvPr/>
        </p:nvSpPr>
        <p:spPr>
          <a:xfrm>
            <a:off x="5803920" y="44308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g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5" name="'h'"/>
          <p:cNvSpPr/>
          <p:nvPr/>
        </p:nvSpPr>
        <p:spPr>
          <a:xfrm>
            <a:off x="6585120" y="44308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h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6" name="'i'"/>
          <p:cNvSpPr/>
          <p:nvPr/>
        </p:nvSpPr>
        <p:spPr>
          <a:xfrm>
            <a:off x="7367760" y="443088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i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7" name="'j'"/>
          <p:cNvSpPr/>
          <p:nvPr/>
        </p:nvSpPr>
        <p:spPr>
          <a:xfrm>
            <a:off x="111744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j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8" name="'k'"/>
          <p:cNvSpPr/>
          <p:nvPr/>
        </p:nvSpPr>
        <p:spPr>
          <a:xfrm>
            <a:off x="189864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k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9" name="'l'"/>
          <p:cNvSpPr/>
          <p:nvPr/>
        </p:nvSpPr>
        <p:spPr>
          <a:xfrm>
            <a:off x="267984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l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0" name="'m'"/>
          <p:cNvSpPr/>
          <p:nvPr/>
        </p:nvSpPr>
        <p:spPr>
          <a:xfrm>
            <a:off x="346068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m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1" name="'n'"/>
          <p:cNvSpPr/>
          <p:nvPr/>
        </p:nvSpPr>
        <p:spPr>
          <a:xfrm>
            <a:off x="424188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n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2" name="'o'"/>
          <p:cNvSpPr/>
          <p:nvPr/>
        </p:nvSpPr>
        <p:spPr>
          <a:xfrm>
            <a:off x="502272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o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3" name="'p'"/>
          <p:cNvSpPr/>
          <p:nvPr/>
        </p:nvSpPr>
        <p:spPr>
          <a:xfrm>
            <a:off x="580392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p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4" name="'q'"/>
          <p:cNvSpPr/>
          <p:nvPr/>
        </p:nvSpPr>
        <p:spPr>
          <a:xfrm>
            <a:off x="658512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q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5" name="'r'"/>
          <p:cNvSpPr/>
          <p:nvPr/>
        </p:nvSpPr>
        <p:spPr>
          <a:xfrm>
            <a:off x="6005520" y="252900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r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6" name="'s'"/>
          <p:cNvSpPr/>
          <p:nvPr/>
        </p:nvSpPr>
        <p:spPr>
          <a:xfrm>
            <a:off x="1569960" y="556092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s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7" name="'t'"/>
          <p:cNvSpPr/>
          <p:nvPr/>
        </p:nvSpPr>
        <p:spPr>
          <a:xfrm>
            <a:off x="2351160" y="556092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t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8" name="'u'"/>
          <p:cNvSpPr/>
          <p:nvPr/>
        </p:nvSpPr>
        <p:spPr>
          <a:xfrm>
            <a:off x="3132000" y="556092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u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9" name="'v'"/>
          <p:cNvSpPr/>
          <p:nvPr/>
        </p:nvSpPr>
        <p:spPr>
          <a:xfrm>
            <a:off x="3913200" y="556092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v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0" name="'w'"/>
          <p:cNvSpPr/>
          <p:nvPr/>
        </p:nvSpPr>
        <p:spPr>
          <a:xfrm>
            <a:off x="469584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w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1" name="'x'"/>
          <p:cNvSpPr/>
          <p:nvPr/>
        </p:nvSpPr>
        <p:spPr>
          <a:xfrm>
            <a:off x="547704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x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2" name="'y'"/>
          <p:cNvSpPr/>
          <p:nvPr/>
        </p:nvSpPr>
        <p:spPr>
          <a:xfrm>
            <a:off x="625788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y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3" name="'z'"/>
          <p:cNvSpPr/>
          <p:nvPr/>
        </p:nvSpPr>
        <p:spPr>
          <a:xfrm>
            <a:off x="703908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z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374" name="Picture 42" descr=""/>
          <p:cNvPicPr/>
          <p:nvPr/>
        </p:nvPicPr>
        <p:blipFill>
          <a:blip r:embed="rId1"/>
          <a:stretch/>
        </p:blipFill>
        <p:spPr>
          <a:xfrm>
            <a:off x="1004760" y="1679400"/>
            <a:ext cx="385920" cy="12765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4" descr=""/>
          <p:cNvPicPr/>
          <p:nvPr/>
        </p:nvPicPr>
        <p:blipFill>
          <a:blip r:embed="rId2"/>
          <a:stretch/>
        </p:blipFill>
        <p:spPr>
          <a:xfrm>
            <a:off x="1501920" y="1679400"/>
            <a:ext cx="385560" cy="12765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5" descr=""/>
          <p:cNvPicPr/>
          <p:nvPr/>
        </p:nvPicPr>
        <p:blipFill>
          <a:blip r:embed="rId3"/>
          <a:stretch/>
        </p:blipFill>
        <p:spPr>
          <a:xfrm>
            <a:off x="2021040" y="1679400"/>
            <a:ext cx="385560" cy="1276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6" descr=""/>
          <p:cNvPicPr/>
          <p:nvPr/>
        </p:nvPicPr>
        <p:blipFill>
          <a:blip r:embed="rId4"/>
          <a:stretch/>
        </p:blipFill>
        <p:spPr>
          <a:xfrm>
            <a:off x="2540160" y="1679400"/>
            <a:ext cx="387360" cy="12765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7" descr=""/>
          <p:cNvPicPr/>
          <p:nvPr/>
        </p:nvPicPr>
        <p:blipFill>
          <a:blip r:embed="rId5"/>
          <a:stretch/>
        </p:blipFill>
        <p:spPr>
          <a:xfrm>
            <a:off x="1271520" y="172260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8" descr=""/>
          <p:cNvPicPr/>
          <p:nvPr/>
        </p:nvPicPr>
        <p:blipFill>
          <a:blip r:embed="rId6"/>
          <a:stretch/>
        </p:blipFill>
        <p:spPr>
          <a:xfrm>
            <a:off x="1768320" y="172260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9" descr=""/>
          <p:cNvPicPr/>
          <p:nvPr/>
        </p:nvPicPr>
        <p:blipFill>
          <a:blip r:embed="rId7"/>
          <a:stretch/>
        </p:blipFill>
        <p:spPr>
          <a:xfrm>
            <a:off x="2287440" y="172260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0" descr=""/>
          <p:cNvPicPr/>
          <p:nvPr/>
        </p:nvPicPr>
        <p:blipFill>
          <a:blip r:embed="rId8"/>
          <a:stretch/>
        </p:blipFill>
        <p:spPr>
          <a:xfrm>
            <a:off x="1519200" y="180504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7" descr=""/>
          <p:cNvPicPr/>
          <p:nvPr/>
        </p:nvPicPr>
        <p:blipFill>
          <a:blip r:embed="rId9"/>
          <a:stretch/>
        </p:blipFill>
        <p:spPr>
          <a:xfrm>
            <a:off x="2016000" y="1805040"/>
            <a:ext cx="385920" cy="1276200"/>
          </a:xfrm>
          <a:prstGeom prst="rect">
            <a:avLst/>
          </a:prstGeom>
          <a:ln w="0">
            <a:noFill/>
          </a:ln>
        </p:spPr>
      </p:pic>
      <p:sp>
        <p:nvSpPr>
          <p:cNvPr id="383" name="Oh no! Button"/>
          <p:cNvSpPr/>
          <p:nvPr/>
        </p:nvSpPr>
        <p:spPr>
          <a:xfrm>
            <a:off x="1427040" y="3479760"/>
            <a:ext cx="1092240" cy="619200"/>
          </a:xfrm>
          <a:prstGeom prst="roundRect">
            <a:avLst>
              <a:gd name="adj" fmla="val 16667"/>
            </a:avLst>
          </a:prstGeom>
          <a:solidFill>
            <a:srgbClr val="ff4343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Uh-Oh!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384" name="Picture 59" descr=""/>
          <p:cNvPicPr/>
          <p:nvPr/>
        </p:nvPicPr>
        <p:blipFill>
          <a:blip r:embed="rId10"/>
          <a:stretch/>
        </p:blipFill>
        <p:spPr>
          <a:xfrm>
            <a:off x="1770120" y="1779480"/>
            <a:ext cx="40644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324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336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348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354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372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384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396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02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08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414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28698 -0.4412 E">
                                      <p:cBhvr>
                                        <p:cTn id="435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437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443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44444E-006 L 0.25712 -0.44259 E">
                                      <p:cBhvr>
                                        <p:cTn id="446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448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24896 -0.3632 E">
                                      <p:cBhvr>
                                        <p:cTn id="451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2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8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6" dur="1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1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21"/>
          <p:cNvSpPr/>
          <p:nvPr/>
        </p:nvSpPr>
        <p:spPr>
          <a:xfrm>
            <a:off x="3179880" y="2395440"/>
            <a:ext cx="578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c1c1c"/>
                </a:solidFill>
                <a:latin typeface="Twinkl"/>
                <a:ea typeface="Sassoon Infant Rg"/>
              </a:rPr>
              <a:t>_ _ _ _ _ </a:t>
            </a:r>
            <a:endParaRPr b="0" lang="en-US" sz="4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86" name="Freeform 8"/>
          <p:cNvSpPr/>
          <p:nvPr/>
        </p:nvSpPr>
        <p:spPr>
          <a:xfrm>
            <a:off x="3798720" y="765000"/>
            <a:ext cx="4551480" cy="1203480"/>
          </a:xfrm>
          <a:custGeom>
            <a:avLst/>
            <a:gdLst/>
            <a:ahLst/>
            <a:rect l="l" t="t" r="r" b="b"/>
            <a:pathLst>
              <a:path w="4980008" h="1204087">
                <a:moveTo>
                  <a:pt x="92960" y="0"/>
                </a:moveTo>
                <a:lnTo>
                  <a:pt x="4884205" y="0"/>
                </a:lnTo>
                <a:cubicBezTo>
                  <a:pt x="4935545" y="0"/>
                  <a:pt x="4977165" y="41620"/>
                  <a:pt x="4977165" y="92960"/>
                </a:cubicBezTo>
                <a:lnTo>
                  <a:pt x="4977165" y="334321"/>
                </a:lnTo>
                <a:lnTo>
                  <a:pt x="4980008" y="349903"/>
                </a:lnTo>
                <a:lnTo>
                  <a:pt x="4980008" y="876507"/>
                </a:lnTo>
                <a:cubicBezTo>
                  <a:pt x="4980008" y="949217"/>
                  <a:pt x="4926742" y="1008161"/>
                  <a:pt x="4861036" y="1008161"/>
                </a:cubicBezTo>
                <a:lnTo>
                  <a:pt x="342091" y="1008161"/>
                </a:lnTo>
                <a:lnTo>
                  <a:pt x="266832" y="1204087"/>
                </a:lnTo>
                <a:lnTo>
                  <a:pt x="191574" y="1008161"/>
                </a:lnTo>
                <a:lnTo>
                  <a:pt x="120336" y="1008161"/>
                </a:lnTo>
                <a:cubicBezTo>
                  <a:pt x="54630" y="1008161"/>
                  <a:pt x="1364" y="949217"/>
                  <a:pt x="1364" y="876507"/>
                </a:cubicBezTo>
                <a:lnTo>
                  <a:pt x="1364" y="471545"/>
                </a:lnTo>
                <a:lnTo>
                  <a:pt x="0" y="464789"/>
                </a:lnTo>
                <a:lnTo>
                  <a:pt x="0" y="92960"/>
                </a:lnTo>
                <a:cubicBezTo>
                  <a:pt x="0" y="41620"/>
                  <a:pt x="41620" y="0"/>
                  <a:pt x="92960" y="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87" name="4-Point Star 9"/>
          <p:cNvSpPr/>
          <p:nvPr/>
        </p:nvSpPr>
        <p:spPr>
          <a:xfrm>
            <a:off x="7257960" y="2322360"/>
            <a:ext cx="276480" cy="324000"/>
          </a:xfrm>
          <a:custGeom>
            <a:avLst/>
            <a:gdLst>
              <a:gd name="textAreaLeft" fmla="*/ 113760 w 276480"/>
              <a:gd name="textAreaRight" fmla="*/ 162720 w 276480"/>
              <a:gd name="textAreaTop" fmla="*/ 133560 h 324000"/>
              <a:gd name="textAreaBottom" fmla="*/ 190440 h 3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88" name="4-Point Star 10"/>
          <p:cNvSpPr/>
          <p:nvPr/>
        </p:nvSpPr>
        <p:spPr>
          <a:xfrm>
            <a:off x="7257960" y="2322360"/>
            <a:ext cx="276480" cy="324000"/>
          </a:xfrm>
          <a:custGeom>
            <a:avLst/>
            <a:gdLst>
              <a:gd name="textAreaLeft" fmla="*/ 113760 w 276480"/>
              <a:gd name="textAreaRight" fmla="*/ 162720 w 276480"/>
              <a:gd name="textAreaTop" fmla="*/ 133560 h 324000"/>
              <a:gd name="textAreaBottom" fmla="*/ 190440 h 3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757080" y="4363920"/>
            <a:ext cx="7631280" cy="1741680"/>
          </a:xfrm>
          <a:prstGeom prst="rect">
            <a:avLst/>
          </a:prstGeom>
          <a:solidFill>
            <a:srgbClr val="ead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3916440" y="1082520"/>
            <a:ext cx="43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Twinkl"/>
                <a:ea typeface="Sassoon Infant Rg"/>
              </a:rPr>
              <a:t>My dad wears a _ _ _ _ _ and tie to work.</a:t>
            </a:r>
            <a:endParaRPr b="0" lang="en-US" sz="1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1" name="'a'"/>
          <p:cNvSpPr/>
          <p:nvPr/>
        </p:nvSpPr>
        <p:spPr>
          <a:xfrm>
            <a:off x="111744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a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2" name="'b'"/>
          <p:cNvSpPr/>
          <p:nvPr/>
        </p:nvSpPr>
        <p:spPr>
          <a:xfrm>
            <a:off x="189864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b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3" name="'c'"/>
          <p:cNvSpPr/>
          <p:nvPr/>
        </p:nvSpPr>
        <p:spPr>
          <a:xfrm>
            <a:off x="2679840" y="44308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c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4" name="'d'"/>
          <p:cNvSpPr/>
          <p:nvPr/>
        </p:nvSpPr>
        <p:spPr>
          <a:xfrm>
            <a:off x="346068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d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5" name="'e'"/>
          <p:cNvSpPr/>
          <p:nvPr/>
        </p:nvSpPr>
        <p:spPr>
          <a:xfrm>
            <a:off x="4241880" y="44308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e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6" name="'f'"/>
          <p:cNvSpPr/>
          <p:nvPr/>
        </p:nvSpPr>
        <p:spPr>
          <a:xfrm>
            <a:off x="502272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f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7" name="'g'"/>
          <p:cNvSpPr/>
          <p:nvPr/>
        </p:nvSpPr>
        <p:spPr>
          <a:xfrm>
            <a:off x="5803920" y="44308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g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8" name="'h'"/>
          <p:cNvSpPr/>
          <p:nvPr/>
        </p:nvSpPr>
        <p:spPr>
          <a:xfrm>
            <a:off x="6585120" y="44308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h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9" name="'i'"/>
          <p:cNvSpPr/>
          <p:nvPr/>
        </p:nvSpPr>
        <p:spPr>
          <a:xfrm>
            <a:off x="7367760" y="443088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i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0" name="'j'"/>
          <p:cNvSpPr/>
          <p:nvPr/>
        </p:nvSpPr>
        <p:spPr>
          <a:xfrm>
            <a:off x="111744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j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1" name="'k'"/>
          <p:cNvSpPr/>
          <p:nvPr/>
        </p:nvSpPr>
        <p:spPr>
          <a:xfrm>
            <a:off x="189864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k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2" name="'l'"/>
          <p:cNvSpPr/>
          <p:nvPr/>
        </p:nvSpPr>
        <p:spPr>
          <a:xfrm>
            <a:off x="267984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l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3" name="'m'"/>
          <p:cNvSpPr/>
          <p:nvPr/>
        </p:nvSpPr>
        <p:spPr>
          <a:xfrm>
            <a:off x="346068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m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4" name="'n'"/>
          <p:cNvSpPr/>
          <p:nvPr/>
        </p:nvSpPr>
        <p:spPr>
          <a:xfrm>
            <a:off x="424188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n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5" name="'o'"/>
          <p:cNvSpPr/>
          <p:nvPr/>
        </p:nvSpPr>
        <p:spPr>
          <a:xfrm>
            <a:off x="502272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o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6" name="'p'"/>
          <p:cNvSpPr/>
          <p:nvPr/>
        </p:nvSpPr>
        <p:spPr>
          <a:xfrm>
            <a:off x="580392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p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7" name="'q'"/>
          <p:cNvSpPr/>
          <p:nvPr/>
        </p:nvSpPr>
        <p:spPr>
          <a:xfrm>
            <a:off x="658512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q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8" name="'r'"/>
          <p:cNvSpPr/>
          <p:nvPr/>
        </p:nvSpPr>
        <p:spPr>
          <a:xfrm>
            <a:off x="7367760" y="501660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r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9" name="'s'"/>
          <p:cNvSpPr/>
          <p:nvPr/>
        </p:nvSpPr>
        <p:spPr>
          <a:xfrm>
            <a:off x="4746600" y="25336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s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10" name="'t'"/>
          <p:cNvSpPr/>
          <p:nvPr/>
        </p:nvSpPr>
        <p:spPr>
          <a:xfrm>
            <a:off x="2351160" y="556092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t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11" name="'u'"/>
          <p:cNvSpPr/>
          <p:nvPr/>
        </p:nvSpPr>
        <p:spPr>
          <a:xfrm>
            <a:off x="3132000" y="556092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u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12" name="'v'"/>
          <p:cNvSpPr/>
          <p:nvPr/>
        </p:nvSpPr>
        <p:spPr>
          <a:xfrm>
            <a:off x="3913200" y="556092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v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13" name="'w'"/>
          <p:cNvSpPr/>
          <p:nvPr/>
        </p:nvSpPr>
        <p:spPr>
          <a:xfrm>
            <a:off x="469584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w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14" name="'x'"/>
          <p:cNvSpPr/>
          <p:nvPr/>
        </p:nvSpPr>
        <p:spPr>
          <a:xfrm>
            <a:off x="547704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x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15" name="'y'"/>
          <p:cNvSpPr/>
          <p:nvPr/>
        </p:nvSpPr>
        <p:spPr>
          <a:xfrm>
            <a:off x="625788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y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16" name="'z'"/>
          <p:cNvSpPr/>
          <p:nvPr/>
        </p:nvSpPr>
        <p:spPr>
          <a:xfrm>
            <a:off x="703908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z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417" name="Picture 42" descr=""/>
          <p:cNvPicPr/>
          <p:nvPr/>
        </p:nvPicPr>
        <p:blipFill>
          <a:blip r:embed="rId1"/>
          <a:stretch/>
        </p:blipFill>
        <p:spPr>
          <a:xfrm>
            <a:off x="1004760" y="1679400"/>
            <a:ext cx="385920" cy="12765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4" descr=""/>
          <p:cNvPicPr/>
          <p:nvPr/>
        </p:nvPicPr>
        <p:blipFill>
          <a:blip r:embed="rId2"/>
          <a:stretch/>
        </p:blipFill>
        <p:spPr>
          <a:xfrm>
            <a:off x="1501920" y="1679400"/>
            <a:ext cx="385560" cy="12765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5" descr=""/>
          <p:cNvPicPr/>
          <p:nvPr/>
        </p:nvPicPr>
        <p:blipFill>
          <a:blip r:embed="rId3"/>
          <a:stretch/>
        </p:blipFill>
        <p:spPr>
          <a:xfrm>
            <a:off x="2021040" y="1679400"/>
            <a:ext cx="385560" cy="12765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6" descr=""/>
          <p:cNvPicPr/>
          <p:nvPr/>
        </p:nvPicPr>
        <p:blipFill>
          <a:blip r:embed="rId4"/>
          <a:stretch/>
        </p:blipFill>
        <p:spPr>
          <a:xfrm>
            <a:off x="2540160" y="1679400"/>
            <a:ext cx="387360" cy="1276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7" descr=""/>
          <p:cNvPicPr/>
          <p:nvPr/>
        </p:nvPicPr>
        <p:blipFill>
          <a:blip r:embed="rId5"/>
          <a:stretch/>
        </p:blipFill>
        <p:spPr>
          <a:xfrm>
            <a:off x="1271520" y="172260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8" descr=""/>
          <p:cNvPicPr/>
          <p:nvPr/>
        </p:nvPicPr>
        <p:blipFill>
          <a:blip r:embed="rId6"/>
          <a:stretch/>
        </p:blipFill>
        <p:spPr>
          <a:xfrm>
            <a:off x="1768320" y="172260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9" descr=""/>
          <p:cNvPicPr/>
          <p:nvPr/>
        </p:nvPicPr>
        <p:blipFill>
          <a:blip r:embed="rId7"/>
          <a:stretch/>
        </p:blipFill>
        <p:spPr>
          <a:xfrm>
            <a:off x="2287440" y="172260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0" descr=""/>
          <p:cNvPicPr/>
          <p:nvPr/>
        </p:nvPicPr>
        <p:blipFill>
          <a:blip r:embed="rId8"/>
          <a:stretch/>
        </p:blipFill>
        <p:spPr>
          <a:xfrm>
            <a:off x="1519200" y="180504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7" descr=""/>
          <p:cNvPicPr/>
          <p:nvPr/>
        </p:nvPicPr>
        <p:blipFill>
          <a:blip r:embed="rId9"/>
          <a:stretch/>
        </p:blipFill>
        <p:spPr>
          <a:xfrm>
            <a:off x="2016000" y="1805040"/>
            <a:ext cx="385920" cy="1276200"/>
          </a:xfrm>
          <a:prstGeom prst="rect">
            <a:avLst/>
          </a:prstGeom>
          <a:ln w="0">
            <a:noFill/>
          </a:ln>
        </p:spPr>
      </p:pic>
      <p:sp>
        <p:nvSpPr>
          <p:cNvPr id="426" name="Oh no! Button"/>
          <p:cNvSpPr/>
          <p:nvPr/>
        </p:nvSpPr>
        <p:spPr>
          <a:xfrm>
            <a:off x="1427040" y="3479760"/>
            <a:ext cx="1092240" cy="619200"/>
          </a:xfrm>
          <a:prstGeom prst="roundRect">
            <a:avLst>
              <a:gd name="adj" fmla="val 16667"/>
            </a:avLst>
          </a:prstGeom>
          <a:solidFill>
            <a:srgbClr val="ff4343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Uh-Oh!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427" name="Picture 59" descr=""/>
          <p:cNvPicPr/>
          <p:nvPr/>
        </p:nvPicPr>
        <p:blipFill>
          <a:blip r:embed="rId10"/>
          <a:stretch/>
        </p:blipFill>
        <p:spPr>
          <a:xfrm>
            <a:off x="1770120" y="1779480"/>
            <a:ext cx="40644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541" nodeType="clickEffect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547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553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559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565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571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577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589" nodeType="clickEffect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595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601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607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613" nodeType="clickEffect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619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625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631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637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643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649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655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661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6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667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-0.14514 -0.27778 E">
                                      <p:cBhvr>
                                        <p:cTn id="670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672" nodeType="clickEffect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7 L -0.17709 -0.27569 E">
                                      <p:cBhvr>
                                        <p:cTn id="675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677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6 L -0.12049 -0.36111 E">
                                      <p:cBhvr>
                                        <p:cTn id="680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1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682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48489 -0.4412 E">
                                      <p:cBhvr>
                                        <p:cTn id="685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687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0" dur="1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8" dur="10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6" dur="10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4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2" dur="1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0" dur="10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8" dur="1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6" dur="1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2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21"/>
          <p:cNvSpPr/>
          <p:nvPr/>
        </p:nvSpPr>
        <p:spPr>
          <a:xfrm>
            <a:off x="3179880" y="2395440"/>
            <a:ext cx="578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c1c1c"/>
                </a:solidFill>
                <a:latin typeface="Twinkl"/>
                <a:ea typeface="Sassoon Infant Rg"/>
              </a:rPr>
              <a:t>_ _ _ _ _ </a:t>
            </a:r>
            <a:endParaRPr b="0" lang="en-US" sz="4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9" name="Freeform 8"/>
          <p:cNvSpPr/>
          <p:nvPr/>
        </p:nvSpPr>
        <p:spPr>
          <a:xfrm>
            <a:off x="3798720" y="765000"/>
            <a:ext cx="4551480" cy="1203480"/>
          </a:xfrm>
          <a:custGeom>
            <a:avLst/>
            <a:gdLst/>
            <a:ahLst/>
            <a:rect l="l" t="t" r="r" b="b"/>
            <a:pathLst>
              <a:path w="4980008" h="1204087">
                <a:moveTo>
                  <a:pt x="92960" y="0"/>
                </a:moveTo>
                <a:lnTo>
                  <a:pt x="4884205" y="0"/>
                </a:lnTo>
                <a:cubicBezTo>
                  <a:pt x="4935545" y="0"/>
                  <a:pt x="4977165" y="41620"/>
                  <a:pt x="4977165" y="92960"/>
                </a:cubicBezTo>
                <a:lnTo>
                  <a:pt x="4977165" y="334321"/>
                </a:lnTo>
                <a:lnTo>
                  <a:pt x="4980008" y="349903"/>
                </a:lnTo>
                <a:lnTo>
                  <a:pt x="4980008" y="876507"/>
                </a:lnTo>
                <a:cubicBezTo>
                  <a:pt x="4980008" y="949217"/>
                  <a:pt x="4926742" y="1008161"/>
                  <a:pt x="4861036" y="1008161"/>
                </a:cubicBezTo>
                <a:lnTo>
                  <a:pt x="342091" y="1008161"/>
                </a:lnTo>
                <a:lnTo>
                  <a:pt x="266832" y="1204087"/>
                </a:lnTo>
                <a:lnTo>
                  <a:pt x="191574" y="1008161"/>
                </a:lnTo>
                <a:lnTo>
                  <a:pt x="120336" y="1008161"/>
                </a:lnTo>
                <a:cubicBezTo>
                  <a:pt x="54630" y="1008161"/>
                  <a:pt x="1364" y="949217"/>
                  <a:pt x="1364" y="876507"/>
                </a:cubicBezTo>
                <a:lnTo>
                  <a:pt x="1364" y="471545"/>
                </a:lnTo>
                <a:lnTo>
                  <a:pt x="0" y="464789"/>
                </a:lnTo>
                <a:lnTo>
                  <a:pt x="0" y="92960"/>
                </a:lnTo>
                <a:cubicBezTo>
                  <a:pt x="0" y="41620"/>
                  <a:pt x="41620" y="0"/>
                  <a:pt x="92960" y="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0" name="4-Point Star 9"/>
          <p:cNvSpPr/>
          <p:nvPr/>
        </p:nvSpPr>
        <p:spPr>
          <a:xfrm>
            <a:off x="7257960" y="2322360"/>
            <a:ext cx="276480" cy="324000"/>
          </a:xfrm>
          <a:custGeom>
            <a:avLst/>
            <a:gdLst>
              <a:gd name="textAreaLeft" fmla="*/ 113760 w 276480"/>
              <a:gd name="textAreaRight" fmla="*/ 162720 w 276480"/>
              <a:gd name="textAreaTop" fmla="*/ 133560 h 324000"/>
              <a:gd name="textAreaBottom" fmla="*/ 190440 h 3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1" name="4-Point Star 10"/>
          <p:cNvSpPr/>
          <p:nvPr/>
        </p:nvSpPr>
        <p:spPr>
          <a:xfrm>
            <a:off x="7257960" y="2322360"/>
            <a:ext cx="276480" cy="324000"/>
          </a:xfrm>
          <a:custGeom>
            <a:avLst/>
            <a:gdLst>
              <a:gd name="textAreaLeft" fmla="*/ 113760 w 276480"/>
              <a:gd name="textAreaRight" fmla="*/ 162720 w 276480"/>
              <a:gd name="textAreaTop" fmla="*/ 133560 h 324000"/>
              <a:gd name="textAreaBottom" fmla="*/ 190440 h 3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2" name="Rectangle 11"/>
          <p:cNvSpPr/>
          <p:nvPr/>
        </p:nvSpPr>
        <p:spPr>
          <a:xfrm>
            <a:off x="757080" y="4363920"/>
            <a:ext cx="7631280" cy="1741680"/>
          </a:xfrm>
          <a:prstGeom prst="rect">
            <a:avLst/>
          </a:prstGeom>
          <a:solidFill>
            <a:srgbClr val="ead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3916440" y="976320"/>
            <a:ext cx="437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Twinkl"/>
                <a:ea typeface="Sassoon Infant Rg"/>
              </a:rPr>
              <a:t>If you are given a sticker with a 3 on it in a race, you have come _ _ _ _ _.</a:t>
            </a:r>
            <a:endParaRPr b="0" lang="en-US" sz="1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4" name="'a'"/>
          <p:cNvSpPr/>
          <p:nvPr/>
        </p:nvSpPr>
        <p:spPr>
          <a:xfrm>
            <a:off x="111744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a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5" name="'b'"/>
          <p:cNvSpPr/>
          <p:nvPr/>
        </p:nvSpPr>
        <p:spPr>
          <a:xfrm>
            <a:off x="189864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b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6" name="'c'"/>
          <p:cNvSpPr/>
          <p:nvPr/>
        </p:nvSpPr>
        <p:spPr>
          <a:xfrm>
            <a:off x="2679840" y="44308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c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7" name="'d'"/>
          <p:cNvSpPr/>
          <p:nvPr/>
        </p:nvSpPr>
        <p:spPr>
          <a:xfrm>
            <a:off x="346068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d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8" name="'e'"/>
          <p:cNvSpPr/>
          <p:nvPr/>
        </p:nvSpPr>
        <p:spPr>
          <a:xfrm>
            <a:off x="4241880" y="44308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e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9" name="'f'"/>
          <p:cNvSpPr/>
          <p:nvPr/>
        </p:nvSpPr>
        <p:spPr>
          <a:xfrm>
            <a:off x="502272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f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0" name="'g'"/>
          <p:cNvSpPr/>
          <p:nvPr/>
        </p:nvSpPr>
        <p:spPr>
          <a:xfrm>
            <a:off x="5803920" y="44308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g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1" name="'h'"/>
          <p:cNvSpPr/>
          <p:nvPr/>
        </p:nvSpPr>
        <p:spPr>
          <a:xfrm>
            <a:off x="5251320" y="252396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h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2" name="'i'"/>
          <p:cNvSpPr/>
          <p:nvPr/>
        </p:nvSpPr>
        <p:spPr>
          <a:xfrm>
            <a:off x="7367760" y="443088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i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3" name="'j'"/>
          <p:cNvSpPr/>
          <p:nvPr/>
        </p:nvSpPr>
        <p:spPr>
          <a:xfrm>
            <a:off x="111744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j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4" name="'k'"/>
          <p:cNvSpPr/>
          <p:nvPr/>
        </p:nvSpPr>
        <p:spPr>
          <a:xfrm>
            <a:off x="189864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k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5" name="'l'"/>
          <p:cNvSpPr/>
          <p:nvPr/>
        </p:nvSpPr>
        <p:spPr>
          <a:xfrm>
            <a:off x="267984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l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6" name="'m'"/>
          <p:cNvSpPr/>
          <p:nvPr/>
        </p:nvSpPr>
        <p:spPr>
          <a:xfrm>
            <a:off x="346068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m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7" name="'n'"/>
          <p:cNvSpPr/>
          <p:nvPr/>
        </p:nvSpPr>
        <p:spPr>
          <a:xfrm>
            <a:off x="424188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n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8" name="'o'"/>
          <p:cNvSpPr/>
          <p:nvPr/>
        </p:nvSpPr>
        <p:spPr>
          <a:xfrm>
            <a:off x="502272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o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9" name="'p'"/>
          <p:cNvSpPr/>
          <p:nvPr/>
        </p:nvSpPr>
        <p:spPr>
          <a:xfrm>
            <a:off x="580392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p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0" name="'q'"/>
          <p:cNvSpPr/>
          <p:nvPr/>
        </p:nvSpPr>
        <p:spPr>
          <a:xfrm>
            <a:off x="658512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q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1" name="'r'"/>
          <p:cNvSpPr/>
          <p:nvPr/>
        </p:nvSpPr>
        <p:spPr>
          <a:xfrm>
            <a:off x="7367760" y="501660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r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2" name="'s'"/>
          <p:cNvSpPr/>
          <p:nvPr/>
        </p:nvSpPr>
        <p:spPr>
          <a:xfrm>
            <a:off x="1569960" y="556092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s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3" name="'t'"/>
          <p:cNvSpPr/>
          <p:nvPr/>
        </p:nvSpPr>
        <p:spPr>
          <a:xfrm>
            <a:off x="2351160" y="556092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t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4" name="'u'"/>
          <p:cNvSpPr/>
          <p:nvPr/>
        </p:nvSpPr>
        <p:spPr>
          <a:xfrm>
            <a:off x="3132000" y="556092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u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5" name="'v'"/>
          <p:cNvSpPr/>
          <p:nvPr/>
        </p:nvSpPr>
        <p:spPr>
          <a:xfrm>
            <a:off x="3913200" y="556092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v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6" name="'w'"/>
          <p:cNvSpPr/>
          <p:nvPr/>
        </p:nvSpPr>
        <p:spPr>
          <a:xfrm>
            <a:off x="469584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w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7" name="'x'"/>
          <p:cNvSpPr/>
          <p:nvPr/>
        </p:nvSpPr>
        <p:spPr>
          <a:xfrm>
            <a:off x="547704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x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8" name="'y'"/>
          <p:cNvSpPr/>
          <p:nvPr/>
        </p:nvSpPr>
        <p:spPr>
          <a:xfrm>
            <a:off x="625788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y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9" name="'z'"/>
          <p:cNvSpPr/>
          <p:nvPr/>
        </p:nvSpPr>
        <p:spPr>
          <a:xfrm>
            <a:off x="703908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z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460" name="Picture 42" descr=""/>
          <p:cNvPicPr/>
          <p:nvPr/>
        </p:nvPicPr>
        <p:blipFill>
          <a:blip r:embed="rId1"/>
          <a:stretch/>
        </p:blipFill>
        <p:spPr>
          <a:xfrm>
            <a:off x="1004760" y="1679400"/>
            <a:ext cx="385920" cy="12765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4" descr=""/>
          <p:cNvPicPr/>
          <p:nvPr/>
        </p:nvPicPr>
        <p:blipFill>
          <a:blip r:embed="rId2"/>
          <a:stretch/>
        </p:blipFill>
        <p:spPr>
          <a:xfrm>
            <a:off x="1501920" y="1679400"/>
            <a:ext cx="385560" cy="12765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5" descr=""/>
          <p:cNvPicPr/>
          <p:nvPr/>
        </p:nvPicPr>
        <p:blipFill>
          <a:blip r:embed="rId3"/>
          <a:stretch/>
        </p:blipFill>
        <p:spPr>
          <a:xfrm>
            <a:off x="2021040" y="1679400"/>
            <a:ext cx="385560" cy="12765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6" descr=""/>
          <p:cNvPicPr/>
          <p:nvPr/>
        </p:nvPicPr>
        <p:blipFill>
          <a:blip r:embed="rId4"/>
          <a:stretch/>
        </p:blipFill>
        <p:spPr>
          <a:xfrm>
            <a:off x="2540160" y="1679400"/>
            <a:ext cx="387360" cy="12765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7" descr=""/>
          <p:cNvPicPr/>
          <p:nvPr/>
        </p:nvPicPr>
        <p:blipFill>
          <a:blip r:embed="rId5"/>
          <a:stretch/>
        </p:blipFill>
        <p:spPr>
          <a:xfrm>
            <a:off x="1271520" y="172260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8" descr=""/>
          <p:cNvPicPr/>
          <p:nvPr/>
        </p:nvPicPr>
        <p:blipFill>
          <a:blip r:embed="rId6"/>
          <a:stretch/>
        </p:blipFill>
        <p:spPr>
          <a:xfrm>
            <a:off x="1768320" y="172260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9" descr=""/>
          <p:cNvPicPr/>
          <p:nvPr/>
        </p:nvPicPr>
        <p:blipFill>
          <a:blip r:embed="rId7"/>
          <a:stretch/>
        </p:blipFill>
        <p:spPr>
          <a:xfrm>
            <a:off x="2287440" y="172260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0" descr=""/>
          <p:cNvPicPr/>
          <p:nvPr/>
        </p:nvPicPr>
        <p:blipFill>
          <a:blip r:embed="rId8"/>
          <a:stretch/>
        </p:blipFill>
        <p:spPr>
          <a:xfrm>
            <a:off x="1519200" y="180504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7" descr=""/>
          <p:cNvPicPr/>
          <p:nvPr/>
        </p:nvPicPr>
        <p:blipFill>
          <a:blip r:embed="rId9"/>
          <a:stretch/>
        </p:blipFill>
        <p:spPr>
          <a:xfrm>
            <a:off x="2016000" y="1805040"/>
            <a:ext cx="385920" cy="1276200"/>
          </a:xfrm>
          <a:prstGeom prst="rect">
            <a:avLst/>
          </a:prstGeom>
          <a:ln w="0">
            <a:noFill/>
          </a:ln>
        </p:spPr>
      </p:pic>
      <p:sp>
        <p:nvSpPr>
          <p:cNvPr id="469" name="Oh no! Button"/>
          <p:cNvSpPr/>
          <p:nvPr/>
        </p:nvSpPr>
        <p:spPr>
          <a:xfrm>
            <a:off x="1427040" y="3479760"/>
            <a:ext cx="1092240" cy="619200"/>
          </a:xfrm>
          <a:prstGeom prst="roundRect">
            <a:avLst>
              <a:gd name="adj" fmla="val 16667"/>
            </a:avLst>
          </a:prstGeom>
          <a:solidFill>
            <a:srgbClr val="ff4343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Uh-Oh!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470" name="Picture 59" descr=""/>
          <p:cNvPicPr/>
          <p:nvPr/>
        </p:nvPicPr>
        <p:blipFill>
          <a:blip r:embed="rId10"/>
          <a:stretch/>
        </p:blipFill>
        <p:spPr>
          <a:xfrm>
            <a:off x="1770120" y="1779480"/>
            <a:ext cx="40644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0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775" nodeType="clickEffect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0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781" nodeType="clickEffect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6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787" nodeType="clickEffect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793" nodeType="clickEffect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805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811" nodeType="clickEffect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817" nodeType="clickEffect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823" nodeType="clickEffect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829" nodeType="clickEffect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835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841" nodeType="clickEffect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6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847" nodeType="clickEffect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8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859" nodeType="clickEffect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865" nodeType="clickEffect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71" nodeType="clickEffect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877" nodeType="clickEffect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883" nodeType="clickEffect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889" nodeType="clickEffect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4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895" nodeType="clickEffect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901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26493 -0.4412 E">
                                      <p:cBhvr>
                                        <p:cTn id="904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906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7 L -0.17709 -0.27569 E">
                                      <p:cBhvr>
                                        <p:cTn id="909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0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911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6 L -0.12049 -0.36111 E">
                                      <p:cBhvr>
                                        <p:cTn id="914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916" nodeType="clickEffect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7 L 0.35625 -0.27755 E">
                                      <p:cBhvr>
                                        <p:cTn id="919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921" nodeType="clickEffect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4" dur="1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7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2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5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3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8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1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6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4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2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0" dur="1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8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1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6" dur="1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Box 21"/>
          <p:cNvSpPr/>
          <p:nvPr/>
        </p:nvSpPr>
        <p:spPr>
          <a:xfrm>
            <a:off x="3179880" y="2395440"/>
            <a:ext cx="578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c1c1c"/>
                </a:solidFill>
                <a:latin typeface="Twinkl"/>
                <a:ea typeface="Sassoon Infant Rg"/>
              </a:rPr>
              <a:t>_ _ _ _  </a:t>
            </a:r>
            <a:endParaRPr b="0" lang="en-US" sz="4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2" name="Freeform 8"/>
          <p:cNvSpPr/>
          <p:nvPr/>
        </p:nvSpPr>
        <p:spPr>
          <a:xfrm>
            <a:off x="3798720" y="765000"/>
            <a:ext cx="4551480" cy="1203480"/>
          </a:xfrm>
          <a:custGeom>
            <a:avLst/>
            <a:gdLst/>
            <a:ahLst/>
            <a:rect l="l" t="t" r="r" b="b"/>
            <a:pathLst>
              <a:path w="4980008" h="1204087">
                <a:moveTo>
                  <a:pt x="92960" y="0"/>
                </a:moveTo>
                <a:lnTo>
                  <a:pt x="4884205" y="0"/>
                </a:lnTo>
                <a:cubicBezTo>
                  <a:pt x="4935545" y="0"/>
                  <a:pt x="4977165" y="41620"/>
                  <a:pt x="4977165" y="92960"/>
                </a:cubicBezTo>
                <a:lnTo>
                  <a:pt x="4977165" y="334321"/>
                </a:lnTo>
                <a:lnTo>
                  <a:pt x="4980008" y="349903"/>
                </a:lnTo>
                <a:lnTo>
                  <a:pt x="4980008" y="876507"/>
                </a:lnTo>
                <a:cubicBezTo>
                  <a:pt x="4980008" y="949217"/>
                  <a:pt x="4926742" y="1008161"/>
                  <a:pt x="4861036" y="1008161"/>
                </a:cubicBezTo>
                <a:lnTo>
                  <a:pt x="342091" y="1008161"/>
                </a:lnTo>
                <a:lnTo>
                  <a:pt x="266832" y="1204087"/>
                </a:lnTo>
                <a:lnTo>
                  <a:pt x="191574" y="1008161"/>
                </a:lnTo>
                <a:lnTo>
                  <a:pt x="120336" y="1008161"/>
                </a:lnTo>
                <a:cubicBezTo>
                  <a:pt x="54630" y="1008161"/>
                  <a:pt x="1364" y="949217"/>
                  <a:pt x="1364" y="876507"/>
                </a:cubicBezTo>
                <a:lnTo>
                  <a:pt x="1364" y="471545"/>
                </a:lnTo>
                <a:lnTo>
                  <a:pt x="0" y="464789"/>
                </a:lnTo>
                <a:lnTo>
                  <a:pt x="0" y="92960"/>
                </a:lnTo>
                <a:cubicBezTo>
                  <a:pt x="0" y="41620"/>
                  <a:pt x="41620" y="0"/>
                  <a:pt x="92960" y="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3" name="4-Point Star 9"/>
          <p:cNvSpPr/>
          <p:nvPr/>
        </p:nvSpPr>
        <p:spPr>
          <a:xfrm>
            <a:off x="7257960" y="2322360"/>
            <a:ext cx="276480" cy="324000"/>
          </a:xfrm>
          <a:custGeom>
            <a:avLst/>
            <a:gdLst>
              <a:gd name="textAreaLeft" fmla="*/ 113760 w 276480"/>
              <a:gd name="textAreaRight" fmla="*/ 162720 w 276480"/>
              <a:gd name="textAreaTop" fmla="*/ 133560 h 324000"/>
              <a:gd name="textAreaBottom" fmla="*/ 190440 h 3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4" name="4-Point Star 10"/>
          <p:cNvSpPr/>
          <p:nvPr/>
        </p:nvSpPr>
        <p:spPr>
          <a:xfrm>
            <a:off x="7257960" y="2322360"/>
            <a:ext cx="276480" cy="324000"/>
          </a:xfrm>
          <a:custGeom>
            <a:avLst/>
            <a:gdLst>
              <a:gd name="textAreaLeft" fmla="*/ 113760 w 276480"/>
              <a:gd name="textAreaRight" fmla="*/ 162720 w 276480"/>
              <a:gd name="textAreaTop" fmla="*/ 133560 h 324000"/>
              <a:gd name="textAreaBottom" fmla="*/ 190440 h 3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5" name="Rectangle 11"/>
          <p:cNvSpPr/>
          <p:nvPr/>
        </p:nvSpPr>
        <p:spPr>
          <a:xfrm>
            <a:off x="757080" y="4363920"/>
            <a:ext cx="7631280" cy="1741680"/>
          </a:xfrm>
          <a:prstGeom prst="rect">
            <a:avLst/>
          </a:prstGeom>
          <a:solidFill>
            <a:srgbClr val="ead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6" name="Rectangle 12"/>
          <p:cNvSpPr/>
          <p:nvPr/>
        </p:nvSpPr>
        <p:spPr>
          <a:xfrm>
            <a:off x="3916440" y="987480"/>
            <a:ext cx="437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Twinkl"/>
                <a:ea typeface="Sassoon Infant Rg"/>
              </a:rPr>
              <a:t>If you fall over on the playground, you might _ _ _ _ your knee.</a:t>
            </a:r>
            <a:endParaRPr b="0" lang="en-US" sz="1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7" name="'a'"/>
          <p:cNvSpPr/>
          <p:nvPr/>
        </p:nvSpPr>
        <p:spPr>
          <a:xfrm>
            <a:off x="111744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a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8" name="'b'"/>
          <p:cNvSpPr/>
          <p:nvPr/>
        </p:nvSpPr>
        <p:spPr>
          <a:xfrm>
            <a:off x="189864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b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9" name="'c'"/>
          <p:cNvSpPr/>
          <p:nvPr/>
        </p:nvSpPr>
        <p:spPr>
          <a:xfrm>
            <a:off x="2679840" y="44308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c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80" name="'d'"/>
          <p:cNvSpPr/>
          <p:nvPr/>
        </p:nvSpPr>
        <p:spPr>
          <a:xfrm>
            <a:off x="346068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d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81" name="'e'"/>
          <p:cNvSpPr/>
          <p:nvPr/>
        </p:nvSpPr>
        <p:spPr>
          <a:xfrm>
            <a:off x="4241880" y="44308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e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82" name="'f'"/>
          <p:cNvSpPr/>
          <p:nvPr/>
        </p:nvSpPr>
        <p:spPr>
          <a:xfrm>
            <a:off x="5022720" y="4430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f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83" name="'g'"/>
          <p:cNvSpPr/>
          <p:nvPr/>
        </p:nvSpPr>
        <p:spPr>
          <a:xfrm>
            <a:off x="5803920" y="44308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g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84" name="'h'"/>
          <p:cNvSpPr/>
          <p:nvPr/>
        </p:nvSpPr>
        <p:spPr>
          <a:xfrm>
            <a:off x="4986360" y="252396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h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85" name="'i'"/>
          <p:cNvSpPr/>
          <p:nvPr/>
        </p:nvSpPr>
        <p:spPr>
          <a:xfrm>
            <a:off x="7367760" y="443088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i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86" name="'j'"/>
          <p:cNvSpPr/>
          <p:nvPr/>
        </p:nvSpPr>
        <p:spPr>
          <a:xfrm>
            <a:off x="111744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j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87" name="'k'"/>
          <p:cNvSpPr/>
          <p:nvPr/>
        </p:nvSpPr>
        <p:spPr>
          <a:xfrm>
            <a:off x="189864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k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88" name="'l'"/>
          <p:cNvSpPr/>
          <p:nvPr/>
        </p:nvSpPr>
        <p:spPr>
          <a:xfrm>
            <a:off x="267984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l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89" name="'m'"/>
          <p:cNvSpPr/>
          <p:nvPr/>
        </p:nvSpPr>
        <p:spPr>
          <a:xfrm>
            <a:off x="346068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m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90" name="'n'"/>
          <p:cNvSpPr/>
          <p:nvPr/>
        </p:nvSpPr>
        <p:spPr>
          <a:xfrm>
            <a:off x="424188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n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91" name="'o'"/>
          <p:cNvSpPr/>
          <p:nvPr/>
        </p:nvSpPr>
        <p:spPr>
          <a:xfrm>
            <a:off x="5022720" y="5016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o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92" name="'p'"/>
          <p:cNvSpPr/>
          <p:nvPr/>
        </p:nvSpPr>
        <p:spPr>
          <a:xfrm>
            <a:off x="580392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p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93" name="'q'"/>
          <p:cNvSpPr/>
          <p:nvPr/>
        </p:nvSpPr>
        <p:spPr>
          <a:xfrm>
            <a:off x="6585120" y="50166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q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94" name="'r'"/>
          <p:cNvSpPr/>
          <p:nvPr/>
        </p:nvSpPr>
        <p:spPr>
          <a:xfrm>
            <a:off x="7367760" y="501660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r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95" name="'s'"/>
          <p:cNvSpPr/>
          <p:nvPr/>
        </p:nvSpPr>
        <p:spPr>
          <a:xfrm>
            <a:off x="1569960" y="556092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s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96" name="'t'"/>
          <p:cNvSpPr/>
          <p:nvPr/>
        </p:nvSpPr>
        <p:spPr>
          <a:xfrm>
            <a:off x="2351160" y="556092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t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97" name="'u'"/>
          <p:cNvSpPr/>
          <p:nvPr/>
        </p:nvSpPr>
        <p:spPr>
          <a:xfrm>
            <a:off x="3132000" y="556092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u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98" name="'v'"/>
          <p:cNvSpPr/>
          <p:nvPr/>
        </p:nvSpPr>
        <p:spPr>
          <a:xfrm>
            <a:off x="3913200" y="556092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v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99" name="'w'"/>
          <p:cNvSpPr/>
          <p:nvPr/>
        </p:nvSpPr>
        <p:spPr>
          <a:xfrm>
            <a:off x="469584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w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00" name="'x'"/>
          <p:cNvSpPr/>
          <p:nvPr/>
        </p:nvSpPr>
        <p:spPr>
          <a:xfrm>
            <a:off x="547704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x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01" name="'y'"/>
          <p:cNvSpPr/>
          <p:nvPr/>
        </p:nvSpPr>
        <p:spPr>
          <a:xfrm>
            <a:off x="625788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y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02" name="'z'"/>
          <p:cNvSpPr/>
          <p:nvPr/>
        </p:nvSpPr>
        <p:spPr>
          <a:xfrm>
            <a:off x="7039080" y="55609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z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503" name="Picture 42" descr=""/>
          <p:cNvPicPr/>
          <p:nvPr/>
        </p:nvPicPr>
        <p:blipFill>
          <a:blip r:embed="rId1"/>
          <a:stretch/>
        </p:blipFill>
        <p:spPr>
          <a:xfrm>
            <a:off x="1004760" y="1679400"/>
            <a:ext cx="385920" cy="12765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4" descr=""/>
          <p:cNvPicPr/>
          <p:nvPr/>
        </p:nvPicPr>
        <p:blipFill>
          <a:blip r:embed="rId2"/>
          <a:stretch/>
        </p:blipFill>
        <p:spPr>
          <a:xfrm>
            <a:off x="1501920" y="1679400"/>
            <a:ext cx="385560" cy="12765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5" descr=""/>
          <p:cNvPicPr/>
          <p:nvPr/>
        </p:nvPicPr>
        <p:blipFill>
          <a:blip r:embed="rId3"/>
          <a:stretch/>
        </p:blipFill>
        <p:spPr>
          <a:xfrm>
            <a:off x="2021040" y="1679400"/>
            <a:ext cx="385560" cy="12765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6" descr=""/>
          <p:cNvPicPr/>
          <p:nvPr/>
        </p:nvPicPr>
        <p:blipFill>
          <a:blip r:embed="rId4"/>
          <a:stretch/>
        </p:blipFill>
        <p:spPr>
          <a:xfrm>
            <a:off x="2540160" y="1679400"/>
            <a:ext cx="387360" cy="12765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7" descr=""/>
          <p:cNvPicPr/>
          <p:nvPr/>
        </p:nvPicPr>
        <p:blipFill>
          <a:blip r:embed="rId5"/>
          <a:stretch/>
        </p:blipFill>
        <p:spPr>
          <a:xfrm>
            <a:off x="1271520" y="172260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8" descr=""/>
          <p:cNvPicPr/>
          <p:nvPr/>
        </p:nvPicPr>
        <p:blipFill>
          <a:blip r:embed="rId6"/>
          <a:stretch/>
        </p:blipFill>
        <p:spPr>
          <a:xfrm>
            <a:off x="1768320" y="172260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9" descr=""/>
          <p:cNvPicPr/>
          <p:nvPr/>
        </p:nvPicPr>
        <p:blipFill>
          <a:blip r:embed="rId7"/>
          <a:stretch/>
        </p:blipFill>
        <p:spPr>
          <a:xfrm>
            <a:off x="2287440" y="172260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0" descr=""/>
          <p:cNvPicPr/>
          <p:nvPr/>
        </p:nvPicPr>
        <p:blipFill>
          <a:blip r:embed="rId8"/>
          <a:stretch/>
        </p:blipFill>
        <p:spPr>
          <a:xfrm>
            <a:off x="1519200" y="1805040"/>
            <a:ext cx="385920" cy="12762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7" descr=""/>
          <p:cNvPicPr/>
          <p:nvPr/>
        </p:nvPicPr>
        <p:blipFill>
          <a:blip r:embed="rId9"/>
          <a:stretch/>
        </p:blipFill>
        <p:spPr>
          <a:xfrm>
            <a:off x="2016000" y="1805040"/>
            <a:ext cx="385920" cy="1276200"/>
          </a:xfrm>
          <a:prstGeom prst="rect">
            <a:avLst/>
          </a:prstGeom>
          <a:ln w="0">
            <a:noFill/>
          </a:ln>
        </p:spPr>
      </p:pic>
      <p:sp>
        <p:nvSpPr>
          <p:cNvPr id="512" name="Oh no! Button"/>
          <p:cNvSpPr/>
          <p:nvPr/>
        </p:nvSpPr>
        <p:spPr>
          <a:xfrm>
            <a:off x="1427040" y="3479760"/>
            <a:ext cx="1092240" cy="619200"/>
          </a:xfrm>
          <a:prstGeom prst="roundRect">
            <a:avLst>
              <a:gd name="adj" fmla="val 16667"/>
            </a:avLst>
          </a:prstGeom>
          <a:solidFill>
            <a:srgbClr val="ff4343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Uh-Oh!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513" name="Picture 59" descr=""/>
          <p:cNvPicPr/>
          <p:nvPr/>
        </p:nvPicPr>
        <p:blipFill>
          <a:blip r:embed="rId10"/>
          <a:stretch/>
        </p:blipFill>
        <p:spPr>
          <a:xfrm>
            <a:off x="1770120" y="1779480"/>
            <a:ext cx="40644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009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4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015" nodeType="clickEffect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1021" nodeType="clickEffect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6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027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2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033" nodeType="clickEffect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039" nodeType="clickEffect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1045" nodeType="clickEffect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0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1051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6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1057" nodeType="clickEffect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063" nodeType="clickEffect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8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1069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4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1075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0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081" nodeType="clickEffect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6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1087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093" nodeType="clickEffect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8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1099" nodeType="clickEffect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4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1105" nodeType="clickEffect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111" nodeType="clickEffect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6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117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123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8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129" nodeType="clickEffect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135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141" nodeType="clickEffect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44444E-006 L 0.25712 -0.44259 E">
                                      <p:cBhvr>
                                        <p:cTn id="1144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5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146" nodeType="clickEffect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6 L -0.14896 -0.36111 E">
                                      <p:cBhvr>
                                        <p:cTn id="1149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0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1151" nodeType="clickEffect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4526 -0.4412 E">
                                      <p:cBhvr>
                                        <p:cTn id="1154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5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1156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9" dur="10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2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7" dur="1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5" dur="1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3" dur="10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6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1" dur="1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9" dur="10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7" dur="10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3" dur="1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6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1" dur="1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09:27Z</dcterms:created>
  <dc:creator>Twinkl</dc:creator>
  <dc:description/>
  <dc:language>en-US</dc:language>
  <cp:lastModifiedBy>J Malpass</cp:lastModifiedBy>
  <dcterms:modified xsi:type="dcterms:W3CDTF">2018-07-22T09:17:34Z</dcterms:modified>
  <cp:revision>169</cp:revision>
  <dc:subject/>
  <dc:title>Geography</dc:title>
</cp:coreProperties>
</file>